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1.png" ContentType="image/png"/>
  <Override PartName="/ppt/media/image6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1040" y="3934080"/>
            <a:ext cx="7804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040" y="393408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93408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9840" y="167760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67760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1040" y="393408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9840" y="393408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934080"/>
            <a:ext cx="25128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3808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677600"/>
            <a:ext cx="3808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123480"/>
            <a:ext cx="78044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677600"/>
            <a:ext cx="3808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1040" y="393408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3808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93408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677600"/>
            <a:ext cx="380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1040" y="3934080"/>
            <a:ext cx="7804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31640" y="1252440"/>
            <a:ext cx="8348760" cy="190080"/>
            <a:chOff x="431640" y="1252440"/>
            <a:chExt cx="8348760" cy="190080"/>
          </a:xfrm>
        </p:grpSpPr>
        <p:sp>
          <p:nvSpPr>
            <p:cNvPr id="1" name=""/>
            <p:cNvSpPr/>
            <p:nvPr/>
          </p:nvSpPr>
          <p:spPr>
            <a:xfrm>
              <a:off x="435600" y="1396440"/>
              <a:ext cx="8330040" cy="46080"/>
            </a:xfrm>
            <a:prstGeom prst="roundRect">
              <a:avLst>
                <a:gd name="adj" fmla="val 3125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1640" y="1252440"/>
              <a:ext cx="8348760" cy="83520"/>
            </a:xfrm>
            <a:prstGeom prst="roundRect">
              <a:avLst>
                <a:gd name="adj" fmla="val 1722"/>
              </a:avLst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100080" y="7920"/>
            <a:ext cx="897120" cy="471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2600" y="6180120"/>
            <a:ext cx="7268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  <a:ea typeface="HG Mincho Light J"/>
              </a:rPr>
              <a:t>Loom </a:t>
            </a:r>
            <a:br>
              <a:rPr sz="1300"/>
            </a:br>
            <a:r>
              <a:rPr b="1" lang="en-US" sz="1300" spc="-1" strike="noStrike">
                <a:solidFill>
                  <a:srgbClr val="3333cc"/>
                </a:solidFill>
                <a:latin typeface="Arial"/>
                <a:ea typeface="HG Mincho Light J"/>
              </a:rPr>
              <a:t>KR&amp;R </a:t>
            </a:r>
            <a:br>
              <a:rPr sz="1300"/>
            </a:br>
            <a:r>
              <a:rPr b="1" lang="en-US" sz="1300" spc="-1" strike="noStrike">
                <a:solidFill>
                  <a:srgbClr val="3333cc"/>
                </a:solidFill>
                <a:latin typeface="Arial"/>
                <a:ea typeface="HG Mincho Light J"/>
              </a:rPr>
              <a:t>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3" marL="123840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4" marL="1500120" indent="-3920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 3" charset="2"/>
              <a:buChar char="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5" marL="1500120" indent="-392040">
              <a:lnSpc>
                <a:spcPct val="97000"/>
              </a:lnSpc>
              <a:spcAft>
                <a:spcPts val="638"/>
              </a:spcAft>
              <a:buClr>
                <a:srgbClr val="000000"/>
              </a:buClr>
              <a:buSzPct val="75000"/>
              <a:buFont typeface="Wingdings 3" charset="2"/>
              <a:buChar char="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6" marL="1500120" indent="-392040">
              <a:lnSpc>
                <a:spcPct val="97000"/>
              </a:lnSpc>
              <a:spcAft>
                <a:spcPts val="638"/>
              </a:spcAft>
              <a:buClr>
                <a:srgbClr val="000000"/>
              </a:buClr>
              <a:buSzPct val="75000"/>
              <a:buFont typeface="Wingdings 3" charset="2"/>
              <a:buChar char="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415280" y="6564240"/>
            <a:ext cx="1728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C89737B2-2F5A-4257-91D3-FDDB4F53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0480" y="228096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Overview, Features and Examp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33400" y="3982680"/>
            <a:ext cx="594360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150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50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ans Chalup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50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ject Leader, USC/ISI Loom KR&amp;R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50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fficult to handle uncertainty and probabilistic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t, various efforts to combine logical and probabilistic models (e.g., PRM’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xity of reasoning algorithm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metimes too expressive, too many different ways of saying the same th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rd to handle grey areas, but the world is gre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ve to make hard decisions (true, false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rd to say “many”, “few”, “nearly”, etc. (frustrates NLP people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052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702320" y="0"/>
            <a:ext cx="444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452840" y="0"/>
            <a:ext cx="4691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7539120" y="2179800"/>
            <a:ext cx="1258920" cy="460080"/>
            <a:chOff x="7539120" y="2179800"/>
            <a:chExt cx="1258920" cy="460080"/>
          </a:xfrm>
        </p:grpSpPr>
        <p:sp>
          <p:nvSpPr>
            <p:cNvPr id="548" name=""/>
            <p:cNvSpPr/>
            <p:nvPr/>
          </p:nvSpPr>
          <p:spPr>
            <a:xfrm>
              <a:off x="7539120" y="2179800"/>
              <a:ext cx="1258920" cy="460080"/>
            </a:xfrm>
            <a:prstGeom prst="irregularSeal1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49080" y="2270520"/>
              <a:ext cx="7398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Fail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216400" y="1913040"/>
            <a:ext cx="3057480" cy="117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G Mincho Light J"/>
              </a:rPr>
              <a:t>Strict proof: ~1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G Mincho Light J"/>
              </a:rPr>
              <a:t>Partial proof: ~2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HG Mincho Light J"/>
              </a:rPr>
              <a:t>Large spa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HG Mincho Light J"/>
              </a:rPr>
              <a:t> of potential partial proofs expl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8400" indent="-3668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 is well-suited for the representation &amp; reasoning task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ll-function, robust and stable KR&amp;R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pressive representation, reasoning, query language, storage, extensive API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in Java (useful for integration with Protégé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a-representation &amp;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s, relations, contexts, rules, queries, etc. are all first-class citizens which can be represented and reasoned abou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anation support for successful and failed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phisticated context &amp; module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capsulation, efficient inference, representation of assump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phisticated support for units &amp; measur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pport for simple timepoint reasoning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90160"/>
            <a:ext cx="7792920" cy="10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KR&amp;R System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2200" y="1676160"/>
            <a:ext cx="7877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67480" indent="-2674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uccessor to the successful Loom KR&amp;R system with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re expressive representation languag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ss arcane syntax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tter scalabilit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tter portability &amp; extensibility (available in Lisp, C++, Java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67480" indent="-2674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ed on first-order predicate logic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67480" indent="-2674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t a description logic but has description logic featur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.g., classifier, type and cardinality reasoning, subsump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67480" indent="-2674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cus on expressivity + scalabilit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67480" indent="-2674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agmatic stanc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ability is more important than theoretical “neatness”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2235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ressivity is more important than inferential completenes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pressivity vs. Inferential Completenes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040" y="1512720"/>
            <a:ext cx="780444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4320" indent="-312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Qualitative comparison of KR-system philosophi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scription logics: restricted expressivity, sound, complete, tractabl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: representationally promiscuous, sound, 80/20 complete &amp; tractable (handle most expected inferences in reasonable time) 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3040" y="3201840"/>
            <a:ext cx="7659720" cy="361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22920" y="4016520"/>
            <a:ext cx="2479680" cy="2263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40200" y="4033800"/>
            <a:ext cx="2444760" cy="2232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32120" y="3768840"/>
            <a:ext cx="4683240" cy="2757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83000" y="3332160"/>
            <a:ext cx="397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HG Mincho Light J"/>
              </a:rPr>
              <a:t>What we need to exp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0920" y="3984480"/>
            <a:ext cx="3781440" cy="237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51080" y="4705200"/>
            <a:ext cx="290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Expressible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Power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4486320"/>
            <a:ext cx="290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Expressible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 Mincho Light J"/>
              </a:rPr>
              <a:t>Descriptio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9520" y="5267160"/>
            <a:ext cx="290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Inferable 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Descriptio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5321160"/>
            <a:ext cx="29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Inferable 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Power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ference Capabilit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1560" y="1523880"/>
            <a:ext cx="83044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Query engine to retrieve asserted and inferable statement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olog-style backward inference enhanced b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93640" indent="-2289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ursive subgoal dete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3640" indent="-2289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per handling of nega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3640" indent="-2289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pothetical reasoning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3640" indent="-2289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source-bounded depth-first or iterative deepening search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3640" indent="-2289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of tree (justification) record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rward inference and simple constraint propag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quality and inequality reasoning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ubsumption reasoning + relation &amp; instance classific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artial match for reasoning with incomplete inform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hyNot” abductive inference for query diagnosi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ble reasoning specialists architectur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nowledge Base Managemen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1040" indent="-3110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cremental monotonic and non-monotonic updat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rleave definitions, assertions, retractions with retrieval and inferenc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uth maintenance via inference cach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11040" indent="-3110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text mechanism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parate name and assertion spaces with inheritanc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vides powerful structuring mechanism for KB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cilitates scenarios and hypothetical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11040" indent="-3110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mple load and save KB mechanism via fil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4640" indent="-260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erimental RDBMS persistence in the work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ilt-in Ontolog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3720" indent="-3632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L-KERNEL-KB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nimal upper level that defines the core representational vocabular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09000" indent="-3628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lation, concept, function, set, holds, proposition, range-cardinality,…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mphasis on minimalit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09000" indent="-3628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 what’s absolutely necessary to make PowerLoom work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09000" indent="-3628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less it contains, the less opportunities for modeling conflicts there are when preexisting ontologies get importe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09000" indent="-3628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ot yet minimal enough, various things still need to be extracted into their own loadable ontolog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3720" indent="-3632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ther available ontologi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mall time ontology: supports time points, durations, temporal arithmetic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nits ontology: units support loadable on demand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rious translations of upper models (e.g., Cyc, SENSUS), application ontolgies (e.g., EELD, Seismology, …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ools and API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000" y="1676160"/>
            <a:ext cx="8305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ntosaurus KB browser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eb-based, dynamic generation of HTML pages viewable in standard browser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 GUI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ava-based browse/edit/query environmen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ent/server based, deployable via Java WebStart in standard browser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teractive command-line interfac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ogrammatic PowerLoom Interface (PLI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sp, C++ and Java binding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sp-based Loom API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cilitates import of legacy Loom KB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ntoMorph translation system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cilitates import of KBs in other languages (e.g. Flogic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itial Semantic Web suppor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7640" indent="-2498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mport translator for RDF/RDF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45960" y="1036800"/>
            <a:ext cx="48276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GUI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6400" y="762120"/>
            <a:ext cx="82836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tosaurus Brows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598788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523880" y="2514600"/>
            <a:ext cx="1905120" cy="1189080"/>
            <a:chOff x="1523880" y="2514600"/>
            <a:chExt cx="1905120" cy="1189080"/>
          </a:xfrm>
        </p:grpSpPr>
        <p:sp>
          <p:nvSpPr>
            <p:cNvPr id="112" name=""/>
            <p:cNvSpPr/>
            <p:nvPr/>
          </p:nvSpPr>
          <p:spPr>
            <a:xfrm>
              <a:off x="1905120" y="2514600"/>
              <a:ext cx="1523880" cy="11890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u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523880" y="32004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33520" y="4038480"/>
            <a:ext cx="2971800" cy="1554840"/>
            <a:chOff x="533520" y="4038480"/>
            <a:chExt cx="2971800" cy="1554840"/>
          </a:xfrm>
        </p:grpSpPr>
        <p:sp>
          <p:nvSpPr>
            <p:cNvPr id="115" name=""/>
            <p:cNvSpPr/>
            <p:nvPr/>
          </p:nvSpPr>
          <p:spPr>
            <a:xfrm flipH="1" flipV="1">
              <a:off x="1371600" y="41148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038480"/>
              <a:ext cx="1676520" cy="15548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uctured 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33520" y="457200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990720" y="4572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66880" y="2590920"/>
            <a:ext cx="6324840" cy="2567160"/>
            <a:chOff x="2666880" y="2590920"/>
            <a:chExt cx="6324840" cy="2567160"/>
          </a:xfrm>
        </p:grpSpPr>
        <p:sp>
          <p:nvSpPr>
            <p:cNvPr id="120" name=""/>
            <p:cNvSpPr/>
            <p:nvPr/>
          </p:nvSpPr>
          <p:spPr>
            <a:xfrm>
              <a:off x="5105520" y="2590920"/>
              <a:ext cx="3733560" cy="1911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al logical encoding of one constraint implied by the textual 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666880" y="35053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91120" y="350532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4343400"/>
              <a:ext cx="5257800" cy="814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Basin-depth = 0m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Vs30 &gt; 2.5km/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3505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ogic-based KR&amp;R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hat is it, advantages, disadvantag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uick overview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sic featur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utoria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vanced features relevant for scientific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bugging failed inferenc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atus and Distribu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9520" indent="-4143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ritten in STELLA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in Lisp, C++ and Java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79520" indent="-4143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urrent release: PowerLoom 3.0.2.beta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asic KR&amp;R system onl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tributed as Lisp, C++ and Java sourc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~500 downloads world-wid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~400 subscribers to the mailing lis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79520" indent="-4143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ensing Term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pen Source, user choice of 3 standard licenc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Helvetica"/>
              <a:buAutoNum type="arabicPeriod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PL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Helvetica"/>
              <a:buAutoNum type="arabicPeriod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GPL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Helvetica"/>
              <a:buAutoNum type="arabicPeriod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ozilla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Features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82774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ll-function, robust and stable KR&amp;R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ation, reasoning, query language, storage, extensive API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vailable in Java (useful for integration with Protégé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ressivit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R failures often due to “we could not express X”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a-representation &amp;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cepts, relations, contexts, rules, queries, etc. are all first-class citizens which can be represented and reasoned abou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anation suppor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uilt-in recording and rendering of proof tre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planation of failed inferences (“WhyNot”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phisticated context &amp; module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capsulation and organization of knowledg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fficient inferenc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7240" indent="-3762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ation of assumptions: e.g., “all reactions modeled here assume 20°C ambient temperature”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37400" indent="-3747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phisticated support for units &amp; measur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040" y="555480"/>
            <a:ext cx="7805520" cy="104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24000" indent="-324000">
              <a:lnSpc>
                <a:spcPct val="97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Features /2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82774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8400" indent="-3668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tensible architectur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asy to add new specialized reasoning procedur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28400" indent="-3668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veat: PowerLoom inference is worst-case exponential complexit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t: many design features to deal with performanc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mon inferences (e.g. subsumption) supported by specialis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pensive inference (e.g., classifier) available on deman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arious search control directives, e.g., forward/backward-only rules, resource bounded inferenc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fferent inference level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dules to focus reasoning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atabase interface to offload data-intensive operations onto RDBM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ccessfully handled very large KB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asoned with full Cyc KB (~1,000,000 facts, 35,000 rule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19080" indent="-366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rge EELD ontologies and datasets (not loadable into XSB deductive database) O(1000) ontology &amp; rules, O(10,000) instances, O(100,000) assertions (see example later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 Language  Concep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4240" y="372960"/>
            <a:ext cx="7029360" cy="89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owerLoom Representation Languag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69480" y="1463400"/>
            <a:ext cx="7688520" cy="236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t">
            <a:normAutofit fontScale="89000"/>
          </a:bodyPr>
          <a:p>
            <a:pPr marL="273600" indent="-273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owerLoom language is based on KIF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-2286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he Knowledge Interchange Format (Genesereth 91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-2286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Developed as part of DARPA’s knowledge sharing effor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-2286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roposed ANSI standard, now one of the accepted syntaxes of the Common-Logic effor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-2286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yntax and declarative semantics for First-Order Predicate Logic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-2286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Lisp-based, uniform prefix syntax, similar to CycL</a:t>
            </a:r>
            <a:br>
              <a:rPr sz="1600"/>
            </a:b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73600" indent="-273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72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6120" y="3911760"/>
            <a:ext cx="60246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acts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erson fred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(citizen-of fred german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(national-language-of germany ger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4848120"/>
            <a:ext cx="63943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ules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all (?p ?c ?l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(=&gt; (and (person ?p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(citizen-of ?p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(national-language-of ?c ?l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(speaks-language ?p ?l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4240" y="372960"/>
            <a:ext cx="7362720" cy="89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owerLoom Representation Language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9840" y="1636200"/>
            <a:ext cx="7834320" cy="393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t">
            <a:normAutofit fontScale="99000"/>
          </a:bodyPr>
          <a:p>
            <a:pPr marL="304560" indent="-3045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ny extensions to standard FOL: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ype, set &amp; cardinality relations, e.g.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set-of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ance-of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nge-cardinalit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etc.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cond-order definitions via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old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lective closed-world assumption (OWA is default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assical negation and negation-by-failur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 (still need work)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04560" indent="-3045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rame-style definition language as syntactic sugar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concept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relation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function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instance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rule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664560" indent="-2541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ows concise definitions but expands internally into standard (more verbose) logic asser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4240" y="372960"/>
            <a:ext cx="7029360" cy="89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owerLoom Knowledge Bas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9480" y="1617840"/>
            <a:ext cx="7688520" cy="479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t">
            <a:normAutofit fontScale="97000"/>
          </a:bodyPr>
          <a:p>
            <a:pPr marL="298440" indent="-2984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Terminology Defini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cepts (classes), functions, and relations define the vocabulary of a domain, e.g.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itizen-of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Asser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scribe what is true in a domai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acts, e.g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person Fred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Rules, e.g.,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forall ?x (=&gt; (rich ?x) (happy ?x))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98440" indent="-2984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Contexts &amp; Modul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Knowledge is organized into modul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Facts &amp; rules are not asserted globally but relative to modules, can have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different truth values in different modul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24912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ierarchical module structure, assertions from higher modules are inherited to lower modul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erms, Relations &amp; Propos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 KB captures a useful representation of a physical or virtual world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ntities in the world are modeled in the KB by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term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eorgia”, “Ben Franklin”, 3,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”abc”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, concept “Person”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rms are categorized and related via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rela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s age”, “greater than”, “is married to”, “plus”, “Person”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s such as “Person” are considered unary rela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Proposition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are sentences with an associated truth valu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n Franklin is a person”, “Bill is married to Hillary”, “two plus three equals six” (which is false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 uses KIF terms and sentences to represent proposi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person Ben-Franklin) (married-to Bill Hillary)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= (+ 2 3) 6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gical Connectives &amp; Ru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edicate logic uses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logical connective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o construct complex sentences from simpler one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=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quantifie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al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ichard is not a crook”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t (crook Richard)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very person has a mother”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orall ?p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(=&gt; (person ?p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(exists ?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(has-mother ?p ?m)))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8400" indent="-3668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erminology (relations, concepts) need to be defined before they are used vi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functio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rela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840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8400" indent="-3668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amples: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person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married-to ((?p1 person) (?p2 person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function + ((?n1 number) (?n2 number)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:-&gt; (?sum number)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840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8400" indent="-3668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dvantage &amp; Disadvantag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ows certain amount of error checking (e.g., misspelled relations, argument type violation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2840" indent="-3682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 bit more tedious and can sometime generate ordering problem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gic-Based Knowledge Representatio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&amp; Reason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finition Order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400" y="1677600"/>
            <a:ext cx="817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ward references are only allowed within defini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valuation of rules within definitions is deferred until query tim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:</a:t>
            </a:r>
            <a:br>
              <a:rPr sz="18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parent (?p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&lt;=&gt; (and (person ?p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(exists ?c 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arent-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?p ?c))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arent-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(?p parent) (?c person)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quivalent definition but illegal forward reference: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parent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(forall (?p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(&lt;=&gt; (parent ?p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(and (person ?p) (exists ?c 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arent-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?p ?c))))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arent-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(?p parent) (?c person))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defin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41000" indent="-3808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inition constructs primarily serve two rol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Helvetica"/>
              <a:buAutoNum type="arabicPeriod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venience; more compact syntax for often used idiom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Helvetica"/>
              <a:buAutoNum type="arabicPeriod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inking sets of related axioms to a name to facilitate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defini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1000" indent="-3808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efinition is useful during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interactive ontology and KB developmen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4100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41000" indent="-3808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 Definition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4100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parent-of ((?p person) (?c person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&lt;=&gt; (relative-of ?p ?c)) </a:t>
            </a:r>
            <a:br>
              <a:rPr sz="1600"/>
            </a:b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1000" indent="-3808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 Redefinition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parent-of ((?p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ar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(?c person))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100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41000" indent="-3808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defin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ent-of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with a different domai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rases the ru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&lt;=&gt; (parent-of ?p ?c) (relative-of ?p ?c)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uth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ach PowerLoom proposition (sentence) is associated with a truth value (relative to a context or module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ve possible truth value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fault-tru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fault-fals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known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tandard assertion assigns truth value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person Bill)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gation asserts truth value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alse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not (crook Richard))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sume command asserts default truth values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presume (=&gt; (bird ?x) (flies ?x)))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positions that are assigned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generate a clash (or contradiction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ful to detect certain constraint violations or error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d by proof-by-contradiction specialis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tradictory propositions do not bring down the system and are treated a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known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hanging Truth Valu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42080" indent="-378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truth value of assertions can be changed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94440" indent="-380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mplicitly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y strengthening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he truth value, e.g.,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-tru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94440" indent="-380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xplicit retractio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of the old  truth value and new assertion, e.g.,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(not (crook Richard)))</a:t>
            </a:r>
            <a:br>
              <a:rPr sz="16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etract (not (crook Richard)))</a:t>
            </a:r>
            <a:br>
              <a:rPr sz="16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(crook Richard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2080" indent="-378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ruth values of inferred propositions cannot be retracted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employee (?e) :=&gt; (person ?e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(assert (employee Mary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(ask (person Mary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ru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(retract (person Mary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(ask (person Mary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ru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texts &amp; Modu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Contexts &amp; Modul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Knowledge is organized into  contex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Modules define name-spaces + assertion space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Worlds define assertion spaces only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acts &amp; rules are not asserted globally but relative to modules, can have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different truth values in different modul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Hierarchical module structure, assertions from higher modules are inherited to lower modul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Non-monotonic inheritance is possible (e.g., override some inherited assertions for scenario reasoning)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ontexts are first-class objects that can be asserted to and queried about in the KB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Allows attachment of meta-information, e.g., source, assumptions, etc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Very efficient, light-weight implementation derived from OPLA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Support built in at a very low level (STELLA)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 Annotated Examp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Using Modu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360000" indent="-30852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 define a separ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SINES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module for our exampl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65560" indent="-3096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herits built-in PowerLoom definition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-KERNEL/PL-USER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65560" indent="-3096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ts up a separate name and assertion space to avoid unwanted interference with/from other loaded knowledge bas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65560" indent="-3096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ows easy experimentation (clearing/changing/editing/saving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65560" indent="-3096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 PowerLoom commands are interpreted relative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urrent modul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4640" y="4083480"/>
            <a:ext cx="764388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defmodule "BUSINESS"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:documentation "Module for the Business demo example."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:includes ("PL-USER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in-module "BUSINESS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clear-module "BUSINESS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16600" y="4702320"/>
            <a:ext cx="239868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031" y="-103"/>
                </a:moveTo>
                <a:lnTo>
                  <a:pt x="-622" y="7441"/>
                </a:lnTo>
              </a:path>
              <a:path w="21600" h="21600">
                <a:moveTo>
                  <a:pt x="-622" y="0"/>
                </a:moveTo>
                <a:lnTo>
                  <a:pt x="-62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List of inherited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16600" y="5173560"/>
            <a:ext cx="2395440" cy="30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392" y="-10128"/>
                </a:moveTo>
                <a:lnTo>
                  <a:pt x="-623" y="7441"/>
                </a:lnTo>
              </a:path>
              <a:path w="21600" h="21600">
                <a:moveTo>
                  <a:pt x="-623" y="0"/>
                </a:moveTo>
                <a:lnTo>
                  <a:pt x="-62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et current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16600" y="5627520"/>
            <a:ext cx="239544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457" y="-14676"/>
                </a:moveTo>
                <a:lnTo>
                  <a:pt x="-623" y="7441"/>
                </a:lnTo>
              </a:path>
              <a:path w="21600" h="21600">
                <a:moveTo>
                  <a:pt x="-623" y="0"/>
                </a:moveTo>
                <a:lnTo>
                  <a:pt x="-62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lear out local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040" y="1547280"/>
            <a:ext cx="78044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2720" indent="-3708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ncepts define classes of entiti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fined via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concep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comman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n have zero or more parent concepts (they all inheri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ING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d to introduce typed instanc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0480" y="2886120"/>
            <a:ext cx="773280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company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corporation (?c company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mpany ACME-cleaners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rporation megasoft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?x (company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2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ACME-CLEANER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MEGASOFT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?x (corporation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19760" y="3878280"/>
            <a:ext cx="27511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045" y="-33278"/>
                </a:moveTo>
                <a:lnTo>
                  <a:pt x="-543" y="7441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oncept variable 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19760" y="3438360"/>
            <a:ext cx="27511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46" y="-2274"/>
                </a:moveTo>
                <a:lnTo>
                  <a:pt x="-543" y="7441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Parent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19760" y="5241960"/>
            <a:ext cx="275112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849" y="-6106"/>
                </a:moveTo>
                <a:lnTo>
                  <a:pt x="-543" y="4147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Found via simple subsumption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9760" y="4341960"/>
            <a:ext cx="27511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58" y="-25734"/>
                </a:moveTo>
                <a:lnTo>
                  <a:pt x="-543" y="7441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reate some inst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9760" y="2992320"/>
            <a:ext cx="27511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911" y="6408"/>
                </a:moveTo>
                <a:lnTo>
                  <a:pt x="-543" y="7441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imple “parentless”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5360" y="4770360"/>
            <a:ext cx="2752920" cy="30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439" y="-24080"/>
                </a:moveTo>
                <a:lnTo>
                  <a:pt x="-543" y="7441"/>
                </a:lnTo>
              </a:path>
              <a:path w="21600" h="21600">
                <a:moveTo>
                  <a:pt x="-543" y="0"/>
                </a:moveTo>
                <a:lnTo>
                  <a:pt x="-5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Retrieve all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2720" indent="-3708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lations define sets of relationships between entiti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ined via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relati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command (&am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functi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see later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have one or more arguments (unary to n-ary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be fixed or variable arit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be single or multi-value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ually specify types for each argumen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d to specify relationships between entities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3880" y="5079240"/>
            <a:ext cx="77328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company-name ((?c company) (?name STRING))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mpany-name ACME-cleaners "ACME Cleaners, LTD"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mpany-name megasoft "MegaSoft, Inc.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520" y="4108320"/>
            <a:ext cx="26161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789" y="68831"/>
                </a:moveTo>
                <a:lnTo>
                  <a:pt x="22171" y="7441"/>
                </a:lnTo>
              </a:path>
              <a:path w="21600" h="21600">
                <a:moveTo>
                  <a:pt x="22171" y="0"/>
                </a:moveTo>
                <a:lnTo>
                  <a:pt x="2217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imple binary 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92920" y="4573440"/>
            <a:ext cx="218124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67" y="34415"/>
                </a:moveTo>
                <a:lnTo>
                  <a:pt x="-684" y="7441"/>
                </a:lnTo>
              </a:path>
              <a:path w="21600" h="21600">
                <a:moveTo>
                  <a:pt x="-684" y="0"/>
                </a:moveTo>
                <a:lnTo>
                  <a:pt x="-68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rgument type =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78480" y="4181400"/>
            <a:ext cx="23083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40" y="61906"/>
                </a:moveTo>
                <a:lnTo>
                  <a:pt x="-647" y="7441"/>
                </a:lnTo>
              </a:path>
              <a:path w="21600" h="21600">
                <a:moveTo>
                  <a:pt x="-647" y="0"/>
                </a:moveTo>
                <a:lnTo>
                  <a:pt x="-647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rgument type =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0" y="3808440"/>
            <a:ext cx="2616120" cy="29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03" y="89397"/>
                </a:moveTo>
                <a:lnTo>
                  <a:pt x="-571" y="7441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rgument/role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lation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1520" y="3517920"/>
            <a:ext cx="77324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mpany-name ?x ?y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2 solutio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, ?Y="MegaSoft, Inc."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ACME-CLEANERS, ?Y="ACME Cleaners, LTD"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?y ?x) (company-name ?x ?y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2 solutio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Y="MegaSoft, Inc.", ?X=MEGASOF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Y="ACME Cleaners, LTD", ?X=ACME-CLEA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373680" indent="-320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trieve all relations asserted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BUSINES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odule: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90960" y="2851200"/>
            <a:ext cx="365148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01" y="37516"/>
                </a:moveTo>
                <a:lnTo>
                  <a:pt x="-409" y="744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Retrieval variables specified implici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5560" y="4452840"/>
            <a:ext cx="1915920" cy="80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587" y="5940"/>
                </a:moveTo>
                <a:lnTo>
                  <a:pt x="-779" y="2777"/>
                </a:lnTo>
              </a:path>
              <a:path w="21600" h="21600">
                <a:moveTo>
                  <a:pt x="-779" y="0"/>
                </a:moveTo>
                <a:lnTo>
                  <a:pt x="-77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Explicit retrieval variables allow value re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0560" y="2308320"/>
            <a:ext cx="26179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22" y="79372"/>
                </a:moveTo>
                <a:lnTo>
                  <a:pt x="-571" y="7441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Number of solutions sou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gic-Based KR&amp;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Knowledge Representation &amp; Reasoning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tudies a wide variety of paradigms &amp; algorithms for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67680" indent="-3862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deling salient aspects of a world of interest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67680" indent="-386280">
              <a:lnSpc>
                <a:spcPct val="9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asoning with such model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67680" indent="0">
              <a:lnSpc>
                <a:spcPct val="97000"/>
              </a:lnSpc>
              <a:spcAft>
                <a:spcPts val="388"/>
              </a:spcAft>
              <a:buNone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re are many different modeling paradigm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gic-based, frame-based, graph-based, probabilistic, etc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 is a logic-based KR&amp;R system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1080" indent="-38664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w do logic-based models represent the world?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lation Hierarch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8000" indent="-3240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ierarchies for concepts as well as relations are supported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94000" indent="-325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 represents a subconcept/subrelation relationship by asserting an “implication” relation (or an “implies” link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4000" indent="-325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k is equivalent to a logic rule but allows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ore efficient inferenc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4000" indent="-325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rious syntactic shortcuts are available to support often-used implication rela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400" y="3943800"/>
            <a:ext cx="7732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fictitious-business-name ((?c company) (?name STRING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:=&gt; (company-name ?c ?name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6720" y="4707720"/>
            <a:ext cx="7732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forall (?c ?name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(=&gt; (fictitious-business-name ?c ?name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(company-name ?c ?name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2560" y="5937120"/>
            <a:ext cx="773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subset-of fictitious-business-name company-name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69240" y="4352760"/>
            <a:ext cx="1251000" cy="6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690" y="-1356"/>
                </a:moveTo>
                <a:lnTo>
                  <a:pt x="-1194" y="3254"/>
                </a:lnTo>
              </a:path>
              <a:path w="21600" h="21600">
                <a:moveTo>
                  <a:pt x="-1194" y="0"/>
                </a:moveTo>
                <a:lnTo>
                  <a:pt x="-119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Equivalent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148000" y="4692600"/>
            <a:ext cx="1755720" cy="11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075280" y="4870440"/>
            <a:ext cx="1836720" cy="92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11920" y="5470560"/>
            <a:ext cx="2154240" cy="5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59" y="16200"/>
                </a:moveTo>
                <a:lnTo>
                  <a:pt x="-694" y="4000"/>
                </a:lnTo>
              </a:path>
              <a:path w="21600" h="21600">
                <a:moveTo>
                  <a:pt x="-694" y="0"/>
                </a:moveTo>
                <a:lnTo>
                  <a:pt x="-69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terna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(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HG Mincho Light J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or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lation Hierarchie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0640" indent="-30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trieve all names of MegaSoft, fictitious or no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51160" indent="-3016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llustrates tha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company-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s a multi-valued rela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2560" y="2733480"/>
            <a:ext cx="7732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fictitious-business-name megasoft “MegaSoft”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?x (company-name megasoft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2 solutio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"MegaSoft, Inc."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"MegaSof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0160" y="4576680"/>
            <a:ext cx="2152440" cy="5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209" y="-8513"/>
                </a:moveTo>
                <a:lnTo>
                  <a:pt x="-694" y="4169"/>
                </a:lnTo>
              </a:path>
              <a:path w="21600" h="21600">
                <a:moveTo>
                  <a:pt x="-694" y="0"/>
                </a:moveTo>
                <a:lnTo>
                  <a:pt x="-69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ferred via the subrelation rule/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61000" y="4121280"/>
            <a:ext cx="21528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59" y="-3514"/>
                </a:moveTo>
                <a:lnTo>
                  <a:pt x="-694" y="7441"/>
                </a:lnTo>
              </a:path>
              <a:path w="21600" h="21600">
                <a:moveTo>
                  <a:pt x="-694" y="0"/>
                </a:moveTo>
                <a:lnTo>
                  <a:pt x="-69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Directly asse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18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373680" indent="-320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nctions are term-producing, single-valued rela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86800" indent="-321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ined via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functi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comman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86800" indent="-321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ery similar to relations defined vi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relati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ut: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86800" indent="-321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erm producin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: a function applied to its first n-1 input arguments specifies a unique, intensional term, e.g., “Fred’s age”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86800" indent="-321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ingle-value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: each set of input arguments has at most one output argument (the last argument), e.g., “Fred’s age is 42”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86800" indent="-321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 default, functions are assumed to b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artial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i.e., could be undefined for some legal input values (e.g., 1/0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0200" y="4808160"/>
            <a:ext cx="77324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function number-of-employees ((?c company)) :-&gt; (?n INTEGER))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= (number-of-employees ACME-cleaners) 8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= (number-of-employees megasoft) 10000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4640" y="4324320"/>
            <a:ext cx="167328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9712" y="35449"/>
                </a:moveTo>
                <a:lnTo>
                  <a:pt x="22493" y="7441"/>
                </a:lnTo>
              </a:path>
              <a:path w="21600" h="21600">
                <a:moveTo>
                  <a:pt x="22493" y="0"/>
                </a:moveTo>
                <a:lnTo>
                  <a:pt x="2249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put arg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91200" y="5218200"/>
            <a:ext cx="1568520" cy="29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785" y="29765"/>
                </a:moveTo>
                <a:lnTo>
                  <a:pt x="-952" y="7441"/>
                </a:lnTo>
              </a:path>
              <a:path w="21600" h="21600">
                <a:moveTo>
                  <a:pt x="-952" y="0"/>
                </a:moveTo>
                <a:lnTo>
                  <a:pt x="-95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Functio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73680" y="4230720"/>
            <a:ext cx="167148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688" y="44337"/>
                </a:moveTo>
                <a:lnTo>
                  <a:pt x="22493" y="7441"/>
                </a:lnTo>
              </a:path>
              <a:path w="21600" h="21600">
                <a:moveTo>
                  <a:pt x="22493" y="0"/>
                </a:moveTo>
                <a:lnTo>
                  <a:pt x="2249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Output arg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71880" y="5235480"/>
            <a:ext cx="1671480" cy="30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6" y="30075"/>
                </a:moveTo>
                <a:lnTo>
                  <a:pt x="-893" y="7441"/>
                </a:lnTo>
              </a:path>
              <a:path w="21600" h="21600">
                <a:moveTo>
                  <a:pt x="-893" y="0"/>
                </a:moveTo>
                <a:lnTo>
                  <a:pt x="-89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Func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unction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39720" y="1677960"/>
            <a:ext cx="78040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nctions syntax often results in shorter expressions than using similar relation syntax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9720" y="3635640"/>
            <a:ext cx="773280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and (company ?x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(exists ?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(and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MS Mincho"/>
              </a:rPr>
              <a:t>(number-of-employees ?x ?n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   (&lt; ?n 50))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ACME-CLEA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9720" y="2253600"/>
            <a:ext cx="77328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and (company ?x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(&lt;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MS Mincho"/>
              </a:rPr>
              <a:t>(number-of-employees ?x)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50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ACME-CLEA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9720" y="3297240"/>
            <a:ext cx="7804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G Mincho Light J"/>
              </a:rPr>
              <a:t>Compar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9720" y="5495040"/>
            <a:ext cx="7970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&gt; (number-of-employees ?x) (number-of-employees ?y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, ?Y=ACME-CLEAN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9720" y="5137200"/>
            <a:ext cx="78040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HG Mincho Light J"/>
              </a:rPr>
              <a:t>Multiple function te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fined Concep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6520" y="1677960"/>
            <a:ext cx="78058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cepts (and functions/relations) can be defined completely in terms of rule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ful to name often-used queries or subexpressions and build up powerful vocabular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6880" y="2970000"/>
            <a:ext cx="773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small-company (?c compan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:&lt;=&gt; (and (company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MS Mincho"/>
              </a:rPr>
              <a:t>(&lt; (number-of-employees ?c) 50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880" y="4474800"/>
            <a:ext cx="773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forall ?c (=&gt; (and (company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(&lt; (number-of-employees ?c) 50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(small-company ?c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6880" y="5459400"/>
            <a:ext cx="773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forall ?c (=&gt; (small-company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(and (company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(&lt; (number-of-employees ?c) 50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06360" y="3824280"/>
            <a:ext cx="134640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9" y="-26251"/>
                </a:moveTo>
                <a:lnTo>
                  <a:pt x="-1109" y="7441"/>
                </a:lnTo>
              </a:path>
              <a:path w="21600" h="21600">
                <a:moveTo>
                  <a:pt x="-1109" y="0"/>
                </a:moveTo>
                <a:lnTo>
                  <a:pt x="-110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New key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21680" y="3871800"/>
            <a:ext cx="1654200" cy="5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514" y="32370"/>
                </a:moveTo>
                <a:lnTo>
                  <a:pt x="-902" y="4284"/>
                </a:lnTo>
              </a:path>
              <a:path w="21600" h="21600">
                <a:moveTo>
                  <a:pt x="-902" y="0"/>
                </a:moveTo>
                <a:lnTo>
                  <a:pt x="-90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Expands into these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49880" y="3733920"/>
            <a:ext cx="1917720" cy="19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570640" y="4340160"/>
            <a:ext cx="2598480" cy="133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fined Concept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trieve small companies even if we don’t know exactly how many employees they have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0480" y="3063240"/>
            <a:ext cx="773280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and (company zz-production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(&lt; (number-of-employees zz-productions) 20))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small-company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2 solutio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ZZ-PRODUCTION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ACME-CLEA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91200" y="4005360"/>
            <a:ext cx="1671840" cy="132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940" y="-5840"/>
                </a:moveTo>
                <a:lnTo>
                  <a:pt x="-893" y="1689"/>
                </a:lnTo>
              </a:path>
              <a:path w="21600" h="21600">
                <a:moveTo>
                  <a:pt x="-893" y="0"/>
                </a:moveTo>
                <a:lnTo>
                  <a:pt x="-89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ll we know is that ZZ Productions has less than 20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30920" y="5191200"/>
            <a:ext cx="1671480" cy="81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242" y="-20336"/>
                </a:moveTo>
                <a:lnTo>
                  <a:pt x="-893" y="2757"/>
                </a:lnTo>
              </a:path>
              <a:path w="21600" h="21600">
                <a:moveTo>
                  <a:pt x="-893" y="0"/>
                </a:moveTo>
                <a:lnTo>
                  <a:pt x="-89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Rule-based inference + transitivity of ‘&lt;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80074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egation &amp; Open/Closed-World Semantic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1479240"/>
            <a:ext cx="8033040" cy="24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414720" indent="-3553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 uses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assical negatio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pen-world assumptio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(OWA) by defaul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B is not assumed to be a complete model of the world: if something can’t be derived the answer is UNKNOWN, not FALS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n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istinguish between failure and falsit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ference engine uses asymmetric effort to derive the truth or falsity of a quer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ocuses effort on deriving truth, picks up falsity only via quick, shallow disproof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ll effort for falsity available by asking for the negated query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ossible extension: 3-valued ask (similar to Loom)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960" y="4097160"/>
            <a:ext cx="77328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s-corporation ((?c corporation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s-corporation zz-productions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s-corporation zz-productions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not (s-corporation zz-productions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s-corporation zz-productions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FALS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s-corporation zz-productions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08800" y="4368960"/>
            <a:ext cx="1671840" cy="51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49" y="13081"/>
                </a:moveTo>
                <a:lnTo>
                  <a:pt x="-985" y="4830"/>
                </a:lnTo>
              </a:path>
              <a:path w="21600" h="21600">
                <a:moveTo>
                  <a:pt x="-985" y="0"/>
                </a:moveTo>
                <a:lnTo>
                  <a:pt x="-98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Due to open-world as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08800" y="5611680"/>
            <a:ext cx="1671840" cy="50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221" y="8203"/>
                </a:moveTo>
                <a:lnTo>
                  <a:pt x="-985" y="4922"/>
                </a:lnTo>
              </a:path>
              <a:path w="21600" h="21600">
                <a:moveTo>
                  <a:pt x="-985" y="0"/>
                </a:moveTo>
                <a:lnTo>
                  <a:pt x="-98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Quick disproof from as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81320" y="4757760"/>
            <a:ext cx="568440" cy="11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99956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egation &amp; Open/Closed-World Semantic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1040" y="1479240"/>
            <a:ext cx="78044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alsity can also come from sources other than explicit asser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-valued functions and rela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equaliti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joint typ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gated rule heads, etc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4160" y="4017960"/>
            <a:ext cx="72612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= (number-of-employees ACME-cleaners) 8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= (number-of-employees ACME-cleaners) 10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FALS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= (number-of-employees ACME-cleaners) 10)))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= (number-of-employees zz-productions) 100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FALS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= (number-of-employees zz-productions) 10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3932280"/>
            <a:ext cx="1737000" cy="81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91" y="9155"/>
                </a:moveTo>
                <a:lnTo>
                  <a:pt x="-948" y="3038"/>
                </a:lnTo>
              </a:path>
              <a:path w="21600" h="21600">
                <a:moveTo>
                  <a:pt x="-948" y="0"/>
                </a:moveTo>
                <a:lnTo>
                  <a:pt x="-94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Quick disproof since functions are single-val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4520" y="4854600"/>
            <a:ext cx="1716120" cy="81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316" y="-338"/>
                </a:moveTo>
                <a:lnTo>
                  <a:pt x="-959" y="3038"/>
                </a:lnTo>
              </a:path>
              <a:path w="21600" h="21600">
                <a:moveTo>
                  <a:pt x="-959" y="0"/>
                </a:moveTo>
                <a:lnTo>
                  <a:pt x="-95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Quick disproof via inequality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61280" y="5794200"/>
            <a:ext cx="1712880" cy="66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3" y="-22307"/>
                </a:moveTo>
                <a:lnTo>
                  <a:pt x="-871" y="3396"/>
                </a:lnTo>
              </a:path>
              <a:path w="21600" h="21600">
                <a:moveTo>
                  <a:pt x="-871" y="0"/>
                </a:moveTo>
                <a:lnTo>
                  <a:pt x="-87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Truly unknown since there is not enough 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123480"/>
            <a:ext cx="79502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egation &amp; Open/Closed-World Semantics /3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040" y="1530360"/>
            <a:ext cx="780444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4320" indent="-312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elective closed-world semantic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egation-by-failur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also available (as used by Prolog, deductive databases, F-Logic, etc.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ful in cases where we do have complete knowledg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something can’t be derived, it is assumed to be fals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osed-world semantics specified by marking relations a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closed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572760" indent="-313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egation-by-failure via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fail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nstead of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not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0960" y="3179160"/>
            <a:ext cx="773280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works-for (?p (?c company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works-for shirly ACME-cleaners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works-for jerome zz-productions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works-for jerome megasoft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losed works-for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works-for jerome megasoft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act (closed works-for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works-for jerome megasoft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fail (works-for jerome megasoft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56480" y="4599000"/>
            <a:ext cx="222732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43" y="24197"/>
                </a:moveTo>
                <a:lnTo>
                  <a:pt x="-739" y="8498"/>
                </a:lnTo>
              </a:path>
              <a:path w="21600" h="21600">
                <a:moveTo>
                  <a:pt x="-739" y="0"/>
                </a:moveTo>
                <a:lnTo>
                  <a:pt x="-73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Mark relation as clo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1960" y="4075200"/>
            <a:ext cx="167184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113" y="22072"/>
                </a:moveTo>
                <a:lnTo>
                  <a:pt x="-985" y="8498"/>
                </a:lnTo>
              </a:path>
              <a:path w="21600" h="21600">
                <a:moveTo>
                  <a:pt x="-985" y="0"/>
                </a:moveTo>
                <a:lnTo>
                  <a:pt x="-98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Due to open wor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54680" y="4987800"/>
            <a:ext cx="222912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38" y="6215"/>
                </a:moveTo>
                <a:lnTo>
                  <a:pt x="-738" y="5457"/>
                </a:lnTo>
              </a:path>
              <a:path w="21600" h="21600">
                <a:moveTo>
                  <a:pt x="-738" y="0"/>
                </a:moveTo>
                <a:lnTo>
                  <a:pt x="-73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Via selective closed-world seman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50000" y="5900760"/>
            <a:ext cx="223380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0" y="5684"/>
                </a:moveTo>
                <a:lnTo>
                  <a:pt x="-737" y="5457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Via explicit negation-by-fail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1040" y="1539720"/>
            <a:ext cx="780444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414720" indent="-3553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traction allows the erasure or change of a previously asserted truth-value of a proposi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ful for error correction or iterative “change of mind” during developmen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seful to change certain aspects of a scenario without having to reload the whole knowledge bas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ows efficient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fine-grained chang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me cached information is lost and needs to be regenerate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ss can be minimized by careful structuring of module hierarchy (put more stable knowledge higher up in the hierarchy)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1240" indent="-3564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lows th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exploration of hypothetical conjectur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at would change if F were true or false?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889560" indent="-35496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dule system allows us to consider both possibilities at the same tim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gical Models 101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6320" y="2182680"/>
            <a:ext cx="1162080" cy="153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8600" y="1862280"/>
            <a:ext cx="766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B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720" y="458784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70080" y="4275000"/>
            <a:ext cx="920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’s F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2320" y="1389240"/>
            <a:ext cx="1413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”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00640" y="1400040"/>
            <a:ext cx="1501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50880" y="3763800"/>
            <a:ext cx="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57440" y="3862440"/>
            <a:ext cx="506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203560"/>
            <a:ext cx="735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de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7840" y="1703520"/>
            <a:ext cx="3060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s represent entitie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Joe, car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42880" y="2212920"/>
            <a:ext cx="2825640" cy="54612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26920" y="2243160"/>
            <a:ext cx="3156120" cy="269388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86360" y="2192400"/>
            <a:ext cx="3257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icates represent relation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77560" y="2617920"/>
            <a:ext cx="4194360" cy="13935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4920" y="2629080"/>
            <a:ext cx="325908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ences represent what is true in the world (facts)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(Person Joe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= (age Joe) 17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Car car002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owns Joe car002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model car002 Ford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not (rich Jo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87240" y="4010040"/>
            <a:ext cx="4771800" cy="18900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3400" y="4630680"/>
            <a:ext cx="6240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les define terms and represent domain regularitie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(&lt;=&gt; (and (&gt; (age ?x) 12) (&lt; (age ?x) 20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    (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Courier New"/>
              </a:rPr>
              <a:t>Teenager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?x)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=&gt; (and (Teenager ?x) (car ?y) (owns ?x ?y)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   (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Courier New"/>
              </a:rPr>
              <a:t>happy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?x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7440" y="5989680"/>
            <a:ext cx="5445000" cy="82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s + rules + inference derive concluded fact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(Teenager Joe)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(happy Jo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traction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1040" y="1539720"/>
            <a:ext cx="78044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ome geographic terminology and inform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6320" y="2004840"/>
            <a:ext cx="773280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geographic-location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country ((?l geographic-location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state ((?l geographic-location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concept city ((?l geographic-location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contains ((?l1 geographic-location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(?l2 geographic-location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and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ountry united-state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geographic-location eastern-us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ontains united-states eastern-u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state georgia) (contains eastern-us georgia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ity atlanta) (contains georgia atlanta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geographic-location southern-us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ontains united-states southern-u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state texas) (contains eastern-us texa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ity dallas) (contains texas dalla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(city austin) (contains texas austin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traction /3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traction to fix an incorrect asser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6320" y="3046320"/>
            <a:ext cx="773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contains eastern-us texas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act (contains eastern-us texas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ntains southern-us texas)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contains eastern-us texas)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alue Clipp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1400" y="1677600"/>
            <a:ext cx="791856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78000" indent="-3240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unctions allow implicit retraction via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value clipping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94000" indent="-325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sertion of a function value automatically retracts a preexisting valu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4000" indent="-325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ustified, since functions are single-value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7480" y="2985120"/>
            <a:ext cx="7732800" cy="27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function headquarters ((?c company)) :-&gt; (?city city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= (headquarters zz-productions) atlanta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= ?x (headquarters zz-productions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ATLANTA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= (headquarters zz-productions) dallas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= ?x (headquarters zz-productions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DALLAS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53160" y="5369040"/>
            <a:ext cx="167148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677" y="1844"/>
                </a:moveTo>
                <a:lnTo>
                  <a:pt x="-985" y="4741"/>
                </a:lnTo>
              </a:path>
              <a:path w="21600" h="21600">
                <a:moveTo>
                  <a:pt x="-985" y="0"/>
                </a:moveTo>
                <a:lnTo>
                  <a:pt x="-98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DALLAS value replaced ATLA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6560" y="4254480"/>
            <a:ext cx="2178000" cy="45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11" y="16332"/>
                </a:moveTo>
                <a:lnTo>
                  <a:pt x="-756" y="5419"/>
                </a:lnTo>
              </a:path>
              <a:path w="21600" h="21600">
                <a:moveTo>
                  <a:pt x="-756" y="0"/>
                </a:moveTo>
                <a:lnTo>
                  <a:pt x="-75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Assertion automatically clips previous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alue Clipping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400" y="1677960"/>
            <a:ext cx="791856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7400" indent="-3747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lipping also works for single-valued rela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960" y="2691000"/>
            <a:ext cx="7732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headquartered-in ((?c company) (?city city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:axioms (single-valued headquartered-in)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headquartered-in megasoft atlanta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headquartered-in megasoft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ATLANTA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headquartered-in megasoft dallas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headquartered-in megasoft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D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tradic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410040" indent="-35136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opositions that are bo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TRU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FALS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are contradictor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44400" indent="-3528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adictions can result from explicit assertions, during forward-chaining, or as the result of a refutation proo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44400" indent="-35280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tradictory propositions are treated a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UNKNOW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o allow the system to continue to fun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960" y="4020120"/>
            <a:ext cx="805032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not (state texas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Derived both TRUE and FALSE for the proposition `|P#|(STATE TEXAS)'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Clash occurred in module `|MDL|/PL-KERNEL-KB/BUSINESS'.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state texas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not (state texas)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UN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ule-Based Inferenc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1040" y="1635120"/>
            <a:ext cx="780444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1080" indent="-3866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gic rules can be used to model complex relationship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ules can be unnamed or named via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defrule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st definition commands expand into one or more rul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8840" indent="-388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ference engines apply rules to derive conclus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040" y="2821320"/>
            <a:ext cx="513864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ntains southern-us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TEXAS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rule transitive-contain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(forall (?l1 ?l2 ?l3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(=&gt; (and (contains ?l1 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(contains ?l2 ?l3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(contains ?l1 ?l3)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ntains southern-us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3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TEXA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AUSTI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DALL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11720" y="3868200"/>
            <a:ext cx="38210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rule transitive-contain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(=&gt; (and (contains ?l1 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(contains ?l2 ?l3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(contains ?l1 ?l3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9080" y="2843280"/>
            <a:ext cx="2184480" cy="48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588" y="26091"/>
                </a:moveTo>
                <a:lnTo>
                  <a:pt x="-753" y="5133"/>
                </a:lnTo>
              </a:path>
              <a:path w="21600" h="21600">
                <a:moveTo>
                  <a:pt x="-753" y="0"/>
                </a:moveTo>
                <a:lnTo>
                  <a:pt x="-75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Finds only directly asserted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2760" y="3395520"/>
            <a:ext cx="3176640" cy="30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611" y="23938"/>
                </a:moveTo>
                <a:lnTo>
                  <a:pt x="-518" y="8016"/>
                </a:lnTo>
              </a:path>
              <a:path w="21600" h="21600">
                <a:moveTo>
                  <a:pt x="-518" y="0"/>
                </a:moveTo>
                <a:lnTo>
                  <a:pt x="-51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contain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 to be transi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43320" y="5735520"/>
            <a:ext cx="3033720" cy="30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295" y="-60680"/>
                </a:moveTo>
                <a:lnTo>
                  <a:pt x="22143" y="8016"/>
                </a:lnTo>
              </a:path>
              <a:path w="21600" h="21600">
                <a:moveTo>
                  <a:pt x="22143" y="0"/>
                </a:moveTo>
                <a:lnTo>
                  <a:pt x="2214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Same rule via implicit quant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med Rules &amp; Axiom Schemata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040" y="1635120"/>
            <a:ext cx="780444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355320" indent="-3045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gic rules can be defined and named vi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defrul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58360" indent="-3056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ules are propositions which are in the domain of discours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762480" indent="-30420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llows meta-annotations and reasonin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558360" indent="-3056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ming rules (or any proposition) provides extra level of convenienc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55320" indent="-3045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xiom schemata allow simple definition of commonly used rule patter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492360"/>
            <a:ext cx="475308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act transitive-contai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ntains southern-us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TEX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transitive contains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ntains southern-us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3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TEXA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AUSTI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DALL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35600" y="3290760"/>
            <a:ext cx="2909880" cy="30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94" y="27555"/>
                </a:moveTo>
                <a:lnTo>
                  <a:pt x="-513" y="7267"/>
                </a:lnTo>
              </a:path>
              <a:path w="21600" h="21600">
                <a:moveTo>
                  <a:pt x="-513" y="0"/>
                </a:moveTo>
                <a:lnTo>
                  <a:pt x="-51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Retract rule by na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38840" y="3662280"/>
            <a:ext cx="2909880" cy="47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821" y="48564"/>
                </a:moveTo>
                <a:lnTo>
                  <a:pt x="-566" y="5150"/>
                </a:lnTo>
              </a:path>
              <a:path w="21600" h="21600">
                <a:moveTo>
                  <a:pt x="-566" y="0"/>
                </a:moveTo>
                <a:lnTo>
                  <a:pt x="-56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Reassert transitivity via meta-relation + axiom 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76880" y="4231440"/>
            <a:ext cx="3867120" cy="1188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(defrelation transitive ((?r RELATION))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  :=&gt;&gt; (and (binary-relation ?r)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(not (function ?r)))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  :=&gt;&gt; </a:t>
            </a: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MS Mincho"/>
              </a:rPr>
              <a:t>(=&gt; (and (?r ?x ?y) </a:t>
            </a:r>
            <a:br>
              <a:rPr sz="1300"/>
            </a:b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MS Mincho"/>
              </a:rPr>
              <a:t>                (?r ?y ?z)) </a:t>
            </a:r>
            <a:br>
              <a:rPr sz="1300"/>
            </a:br>
            <a:r>
              <a:rPr b="1" lang="en-US" sz="1300" spc="-1" strike="noStrike">
                <a:solidFill>
                  <a:srgbClr val="ff0000"/>
                </a:solidFill>
                <a:latin typeface="Courier New"/>
                <a:ea typeface="MS Mincho"/>
              </a:rPr>
              <a:t>           (?r ?x ?z))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29360" y="5654520"/>
            <a:ext cx="260676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7" y="-10691"/>
                </a:moveTo>
                <a:lnTo>
                  <a:pt x="-631" y="5236"/>
                </a:lnTo>
              </a:path>
              <a:path w="21600" h="21600">
                <a:moveTo>
                  <a:pt x="-631" y="0"/>
                </a:moveTo>
                <a:lnTo>
                  <a:pt x="-63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Transitivity relation and axiom schema from PL-KERNEL 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Justifications and Explan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1040" y="1599840"/>
            <a:ext cx="7804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369000" indent="-3160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anation of true/false querie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3175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ackward inference can store proof trees that can be rendered into explana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9960" indent="-3175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mple built-in explanation mechanism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791640" indent="-3160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Various rendering possibilities, ASCII, HTML, XML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791640" indent="-3160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liminates explanation of duplicate and low-level goal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791640" indent="-3160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planation strings for different audiences (technical, lay)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7880" y="3488760"/>
            <a:ext cx="773280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k (contains southern-us dallas))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TRUE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why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1 (CONTAINS SOUTHERN-US DALLA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follows by Modus Ponen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with substitution {?l1/SOUTHERN-US, ?l3/DALLAS, ?l2/TEXAS}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since 1.1 ! (FORALL (?l1 ?l3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(&lt;= (CONTAINS ?l1 ?l3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(EXISTS (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   (AND (CONTAINS ?l1 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        (CONTAINS ?l2 ?l3))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and   1.2 ! (CONTAINS SOUTHERN-US TEXA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and   1.3 ! (CONTAINS TEXAS DALL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planation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1040" y="1547280"/>
            <a:ext cx="780444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planation of retrieved result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eparate explanation for each derived solu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wh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explains most recently retrieved solu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2617200"/>
            <a:ext cx="773280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3 (contains southern-us ?x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3 solutions so far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DALLA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TEXA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AUSTIN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why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1 (CONTAINS SOUTHERN-US AUSTIN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follows by Modus Ponen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with substitution {?l1/SOUTHERN-US, ?l3/AUSTIN, ?l2/TEXAS}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since 1.1 ! (FORALL (?l1 ?l3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(&lt;= (CONTAINS ?l1 ?l3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(EXISTS (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   (AND (CONTAINS ?l1 ?l2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            (CONTAINS ?l2 ?l3))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and   1.2 ! (CONTAINS SOUTHERN-US TEXA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and   1.3 ! (CONTAINS TEXAS AUSTI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texts &amp; Modu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3720" indent="-3632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pothetical or scenario reasoning can be achieved by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reating a new context which inherits existing set of facts an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65640" indent="-3643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ows the exploration of "assumptions".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23720" indent="-3632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this example, we show how certain inherited assertions can be retracted and change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799080"/>
            <a:ext cx="7732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defmodule "ALTERNATE-BUSINESS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:includes "BUSINESS"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in-module "ALTERNATE-BUSINESS"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and (company web-phantoms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(company-name web-phantoms "Web Phantoms, Inc."))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act (company-name megasoft "MegaSoft, Inc."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assert (company-name megasoft "MegaZorch, Inc."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ow Does Logic Model the World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erms correspond to entities in the (some) world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redicates model properties and relations between entiti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Domain rule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define and constrain relations, for example,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If Joe is a teenager who owns a car then Joe is happy”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Logical inference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rules define the propagation of truth between logical sentences, for example: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         from X and X =&gt; Y it must be true that 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more rules and sentences we add, the higher constrained their “interpretation” (what they could mean) becom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87360" indent="-3319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wever, every consistent theory always has infinitely many (formal) interpreta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texts &amp; Module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1040" y="1565280"/>
            <a:ext cx="78044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2720" indent="-3708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ALTERNATE-BUSINES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odule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herits all of the information of its parent modul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80040" indent="-3722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s subject to the specific changes made in the local module.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040" y="2515320"/>
            <a:ext cx="77328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in-module "BUSINESS"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mpany-name ?x ?y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3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, ?Y="MegaSoft, Inc.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ACME-CLEANERS, ?Y="ACME Cleaners, LTD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MEGASOFT, ?Y="MegaSoft"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in-module "ALTERNATE-BUSINESS"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company-name ?x ?y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4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MS Mincho"/>
              </a:rPr>
              <a:t>#1: ?X=MEGASOFT, ?Y="MegaZorch, Inc."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MS Mincho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#2: ?X=WEB-PHANTOMS, ?Y="Web Phantoms, Inc.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ACME-CLEANERS, ?Y="ACME Cleaners, LTD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4: ?X=MEGASOFT, ?Y="MegaSoft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43880" y="4160880"/>
            <a:ext cx="21301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224" y="81390"/>
                </a:moveTo>
                <a:lnTo>
                  <a:pt x="-773" y="8016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Changed local asser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0400" y="5565600"/>
            <a:ext cx="2163600" cy="5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010" y="-61867"/>
                </a:moveTo>
                <a:lnTo>
                  <a:pt x="-761" y="4800"/>
                </a:lnTo>
              </a:path>
              <a:path w="21600" h="21600">
                <a:moveTo>
                  <a:pt x="-761" y="0"/>
                </a:moveTo>
                <a:lnTo>
                  <a:pt x="-76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From “fictitious business name” asser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570560" y="5964120"/>
            <a:ext cx="2071440" cy="79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27680" y="4762440"/>
            <a:ext cx="2146320" cy="30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83" y="50437"/>
                </a:moveTo>
                <a:lnTo>
                  <a:pt x="-767" y="8016"/>
                </a:lnTo>
              </a:path>
              <a:path w="21600" h="21600">
                <a:moveTo>
                  <a:pt x="-767" y="0"/>
                </a:moveTo>
                <a:lnTo>
                  <a:pt x="-767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New local asser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-Contextual Reason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91600" indent="-2498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rmally queries operate in the current module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457920" indent="-250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IST (IS-TRUE) relation (J. McCarthy) allows us to query about the state of knowledge in other modules.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457920" indent="-250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s also allows cross-module inference by binding variables across form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457920" indent="-2505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ample: “find all companies whose names differ in the two modules”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9120" y="3084120"/>
            <a:ext cx="849456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in-module "BUSINESS")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ist alternate-business (company-name ?x ?y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are 4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, ?Y="MegaZorch, Inc.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2: ?X=MEGASOFT, ?Y="MegaSoft, Inc.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3: ?X=ACME-CLEANERS, ?Y="ACME Cleaners, LTD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4: ?X=MEGASOFT, ?Y="MegaSoft"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(retrieve all (and (ist business (company-name ?x ?y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           (fail (ist alternate-business (company-name ?x ?y))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here is 1 solution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 #1: ?X=MEGASOFT, ?Y="MegaSoft, Inc.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 algn="ctr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DBMS to PowerLoom Mapp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7200" y="1762200"/>
            <a:ext cx="79992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(DEFDB edb1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:dsn "EELD_EDB17JUN03_COMPLIANT_PUBLIC_PL“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:user "scott"  :host "blackcat.isi.edu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8480" y="1414440"/>
            <a:ext cx="581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a PowerLoom database instanc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edb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7200" y="3389400"/>
            <a:ext cx="7999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(DEFTABLE EDB-Person edb1 "PERSON“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  (?ENTITYID ?REPORTID ?SOURCEI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   ?LASTNAME ?FIRSTNAME ?MIDDLENAME ?NICKNAME ?GENDER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   ?COUNTRYCITIZENSHIP ?AGE ?BIRTHLOCATION ?RESIDENC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7200" y="5237280"/>
            <a:ext cx="79992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(ASSERT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(=&gt; (QUERY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(EXISTS (?rep ?s ?l ?f ?m ?n ?g ?c ?a ?b ?res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 (EDB-Person ?p ?rep ?s ?l ?f ?m ?n ?g ?c ?a ?b ?res)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:MATCH-MODE :EELD :HOW-MANY :ALL)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(Person ?p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480" y="2693880"/>
            <a:ext cx="822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a PowerLoom relation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EDB-Person 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maps onto the EDB tabl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er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8480" y="4519440"/>
            <a:ext cx="6567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a PowerLoom lifting axiom that maps the ontology concep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ers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o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EDB-Per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vanced Topic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cept Defin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05740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concept ev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:documentation "The class of events.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4251240"/>
            <a:ext cx="76960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concept movement-event (?ev even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:documentation "The class of movement events.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:=&gt; (= (* (time ?ev) (speed ?ev)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(distance ?ev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1600200"/>
            <a:ext cx="358128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new concept ter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2895480"/>
            <a:ext cx="251460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733920" y="18288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105520" y="2742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652920"/>
            <a:ext cx="548640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ement-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s subconcept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1148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114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5867280"/>
            <a:ext cx="320040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t rule in KIF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057400" y="5334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finitions are Syntactic Suga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3406680"/>
            <a:ext cx="838224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ev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concept movement-ev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(documentation movement-even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"The class of movement events.“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(forall ?ev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(=&gt; (movement-event ?ev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(event ?ev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(forall ?ev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(=&gt; (movement-event ?ev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(= (* (time ?ev) (speed ?ev)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(distance ?ev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57880" y="3352680"/>
            <a:ext cx="358128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a assertion about the concep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ement-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6386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69160" y="4952880"/>
            <a:ext cx="2970000" cy="914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s the subconcep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67360" y="5792760"/>
            <a:ext cx="297180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esents the constr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9525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952520" y="6019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360" y="1695240"/>
            <a:ext cx="7805880" cy="12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ts such a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concep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acilitate concise expression of commonly needed definition task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: Previous definitions expand into the following more verbose set of assertion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lation Defin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1040" y="4626000"/>
            <a:ext cx="71658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function time ((?ev movement-event) ?tim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documentation “The duration of a movement event.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function speed ((?ev movement-event) ?speed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documentation “The speed of a movement event.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function distance ((?ev movement-event) ?distanc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documentation “The distance covered by a movement.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5200" y="2590920"/>
            <a:ext cx="7307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elation sub-event ((?sub event) (?super event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:documentation “Links a sub-event to its super-event.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752480"/>
            <a:ext cx="708660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binary rela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-ev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domain and 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778120" y="2209680"/>
            <a:ext cx="65088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82960" y="2209680"/>
            <a:ext cx="20750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587640" y="2209680"/>
            <a:ext cx="42228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3429000"/>
            <a:ext cx="7086600" cy="1463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 can have arbitrary as well as variable arit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s are single-valued, term-generating rel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stance Defini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4937040"/>
            <a:ext cx="5257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ssert (movement-event ev1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ssert (= (speed ev1) 10)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ssert (= (time ev1) 20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2498760"/>
            <a:ext cx="6781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instance ev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:movement-event true :speed 10 :time 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7086600" cy="36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event instanc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various proper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71440" y="2209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276720" y="5943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4064040"/>
            <a:ext cx="7086600" cy="914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above concise, frame-style definition expands in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individual asser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6095880"/>
            <a:ext cx="3809880" cy="64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rm “time of ev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v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ttaching Information to Ru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4678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04560" indent="-3045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ules are also in the domain of discourse and can be named for easy attachment of other informa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60960" indent="-2548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example, documentation strings or explanation template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3200400"/>
            <a:ext cx="838224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rul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peed-ru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(forall ?ev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(=&gt; (movement-event ?ev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(= (* (time ?ev) (speed ?ev)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(distance ?ev))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:documentation “Distance = time * speed of a movement.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sser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(explanation-templa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peed-ru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“The distance ?(distance ?ev) of the movement event ?ev equal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its duration ?(time ?ev) times its speed ?(speed ?ev).”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rithmetic Constraint Reason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4678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marL="195840" indent="-19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rithmetic reasoning is important for scientific, engineering and everyday reasoning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195840" indent="-19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Loom’s built-in arithmetic specialists can compute a result from any two bound argument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424800" indent="-163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ows us to model this formula via a single “speed” rule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instead of three – was an issue with Cyc in Phase-1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424800" indent="-1638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ample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+ 5 ?x 2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=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?x = -3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424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2440" y="3732120"/>
            <a:ext cx="83818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instance ev1 :movement-event true :speed 10 :time 20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instance ev2 :movement-event true :speed 10 :distance 50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etrieve all (distance ev1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#1: ?X=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etrieve all (time ev2 ?x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#1: ?X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vantages of Logic-based Mode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47924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79720" indent="-279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adi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ell-understood syntax and semantic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ery large amount of relevant research (&gt; 2000 yrs.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any available logic-based tool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33120" indent="-18720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rovers, constraint reasoners, learners, planners, KR&amp;R systems, etc.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79720" indent="-279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presentational power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ega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sjunc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quality (object identity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gical connectiv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Quantifica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ules, constraints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bstraction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ndable vocabulary, ontologi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06960" indent="-23400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If you can’t say it in logic, you probably don’t want to say i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” 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7972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1080" y="5908680"/>
            <a:ext cx="244440" cy="2365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al Quer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4678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marL="155520" indent="-155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ny other systems have problems with general queries that ask about classes of thing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337320" indent="-129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s it true that the ionization of diluted solutions is higher than those of concentrated solutions?”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337320" indent="-129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is is often worked around by introducing a specific solution individual and asking the question about the instance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155520" indent="-155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 PowerLoom we can ask the universal question directly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7040" y="4192560"/>
            <a:ext cx="838188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fconcept solution  :documentation "The class of chemical solutions.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ffunction concentration-level ((?s solution) ?level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:documentation “Concentration ?level of some particular solution ?s.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ffunction ionization ((?s solution) ?level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:documentation “Ionization ?level of some particular solution ?s.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defrelation greater-than (?x ?y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:documentation "Qualitative `&gt;' relation.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al Queries /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46784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54880" indent="-2548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wo (mock) rules describing relationships between concentration levels of solutions and their ionization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52960" indent="-2131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ote that these rules operate at the instance level: given a specific solution instance and its concentration, we can infer the solution’s ionization level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040" y="3541680"/>
            <a:ext cx="74232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defrule ionization-rule1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(=&gt; (and (solution ?x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(concentration-level ?x diluted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(= (ionization ?x) high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:documentation “Diluted solutions have high ionization.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defrule ionization-rule2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(=&gt; (and (solution ?x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(concentration-level ?x concentrated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(= (ionization ?x) low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:documentation “Concentrated solutions have low ionization.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greater-than high low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14880" y="6202440"/>
            <a:ext cx="1793880" cy="3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05" y="-281"/>
                </a:moveTo>
                <a:lnTo>
                  <a:pt x="-832" y="6732"/>
                </a:lnTo>
              </a:path>
              <a:path w="21600" h="21600">
                <a:moveTo>
                  <a:pt x="-832" y="0"/>
                </a:moveTo>
                <a:lnTo>
                  <a:pt x="-83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HG Mincho Light J"/>
              </a:rPr>
              <a:t>Qualitative orde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al Queries /3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46784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marL="261000" indent="-261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n phrase the general query directly as a universally quantified statemen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566640" indent="-218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’s Universal Introduction reasoner is used to prove i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66640" indent="-2185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utomatically introduces hypothetical solution individuals with the necessary properties in a hypothetical worl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6040" y="3308400"/>
            <a:ext cx="74232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forall (?x ?y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(=&gt; (and (solution ?x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(solution ?y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(concentration-level ?x diluted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(concentration-level ?y concentrated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(greater-than (ionization ?x) (ionization ?y))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7040" y="5403960"/>
            <a:ext cx="79912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and (solution sol1) (concentration-level sol1 diluted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and (solution sol2) (concentration-level sol2 concentrated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greater-than (ionization sol1) (ionization sol2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5160" y="5070600"/>
            <a:ext cx="7467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1040" indent="-311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HG Mincho Light J"/>
              </a:rPr>
              <a:t>Contrast this with the “hand-reification” approa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presenting Quer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Question answering applica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asoning about the queries itself is often important (e.g., answering a multiple-choice question by identifying the incorrect answers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owerLoom can represent queries as terms to facilitate such query-level reasoning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: Wh-query can be represented via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APP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term and then evaluated via the query engine to generate the answers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0080" y="4008600"/>
            <a:ext cx="80964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deffunction wh-query (?q) :-&gt; (?kappa SET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wh-query q1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(kappa ?x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(and (solution ?x) (concentration-level ?x diluted))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and (solution s1) (concentration-level s1 diluted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and (solution s2) (concentration-level s2 concentrated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and (solution s3) (concentration-level s3 diluted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?x (member-of ?x (wh-query q1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re are 2 solutions: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#1: ?X=S3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#2: ?X=S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Units and Dimens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cientific reasoning uses various units and dimens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 has full support for unit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rge number of predefined uni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I and other measurement system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undamental quantities:</a:t>
            </a:r>
            <a:br>
              <a:rPr sz="14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s, distance, time, angle, solid angle, amount of substance, electric current, luminous intensity, data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rithmetic operations on uni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rbitrary combinations of units introduced by formula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0">
              <a:lnSpc>
                <a:spcPct val="87000"/>
              </a:lnSpc>
              <a:spcAft>
                <a:spcPts val="388"/>
              </a:spcAft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—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ot limited to predefined combinations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nsible via STELLA cod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gration with Ontolog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atatype introduced via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MS Mincho"/>
              </a:rPr>
              <a:t>units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func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 logical operations and inferences work with uni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Unit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ssertions and Comparis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1040" y="1547280"/>
            <a:ext cx="78044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S Mincho"/>
              </a:rPr>
              <a:t>unit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function introduces the data type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ser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4880" y="2812680"/>
            <a:ext cx="773424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age Fred) (units 35 "yr"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age Pebbles) (units 18 "month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answer problem) (units 42 "m2kg/s3"))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units 10 "mm") (units 10 "ft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units 10 "ft") (units 11 "m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units 11 "m") (units 10 "ft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ALSE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units 11 "kg") (units 10 "ft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03880" y="2373480"/>
            <a:ext cx="230328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02" y="34415"/>
                </a:moveTo>
                <a:lnTo>
                  <a:pt x="-648" y="7441"/>
                </a:lnTo>
              </a:path>
              <a:path w="21600" h="21600">
                <a:moveTo>
                  <a:pt x="-648" y="0"/>
                </a:moveTo>
                <a:lnTo>
                  <a:pt x="-64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Units (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23200" y="5221440"/>
            <a:ext cx="244296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44" y="7315"/>
                </a:moveTo>
                <a:lnTo>
                  <a:pt x="-611" y="4147"/>
                </a:lnTo>
              </a:path>
              <a:path w="21600" h="21600">
                <a:moveTo>
                  <a:pt x="-611" y="0"/>
                </a:moveTo>
                <a:lnTo>
                  <a:pt x="-61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compatible units, so no meaningfu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27440"/>
            <a:ext cx="2413080" cy="52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46" y="7042"/>
                </a:moveTo>
                <a:lnTo>
                  <a:pt x="-619" y="7042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omparisons normally give true or false ans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11800" y="1979640"/>
            <a:ext cx="231300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7" y="61906"/>
                </a:moveTo>
                <a:lnTo>
                  <a:pt x="-646" y="7441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Magnitude of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145280" y="2887560"/>
            <a:ext cx="1770120" cy="5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93" y="17923"/>
                </a:moveTo>
                <a:lnTo>
                  <a:pt x="-844" y="4136"/>
                </a:lnTo>
              </a:path>
              <a:path w="21600" h="21600">
                <a:moveTo>
                  <a:pt x="-844" y="0"/>
                </a:moveTo>
                <a:lnTo>
                  <a:pt x="-84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rbitrary unit comb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Unit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vers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ll units are stored internally in canonical form (SI mk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versions are performed on input or outpu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3880" y="3542040"/>
            <a:ext cx="773280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"mile") (units 100 "km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62.137119223733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?y) (units 100 "km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100000.0, ?Y="m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= (age Fred) (units ?x "yr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3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1000 ?y) (units 1 "km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 solution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89600" y="3672000"/>
            <a:ext cx="185112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347" y="32555"/>
                </a:moveTo>
                <a:lnTo>
                  <a:pt x="-806" y="7441"/>
                </a:lnTo>
              </a:path>
              <a:path w="21600" h="21600">
                <a:moveTo>
                  <a:pt x="-806" y="0"/>
                </a:moveTo>
                <a:lnTo>
                  <a:pt x="-80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Miles to kil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59480" y="4992840"/>
            <a:ext cx="21812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351" y="7338"/>
                </a:moveTo>
                <a:lnTo>
                  <a:pt x="-684" y="7441"/>
                </a:lnTo>
              </a:path>
              <a:path w="21600" h="21600">
                <a:moveTo>
                  <a:pt x="-684" y="0"/>
                </a:moveTo>
                <a:lnTo>
                  <a:pt x="-68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More useful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56360" y="5816520"/>
            <a:ext cx="158436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35" y="1757"/>
                </a:moveTo>
                <a:lnTo>
                  <a:pt x="-942" y="7441"/>
                </a:lnTo>
              </a:path>
              <a:path w="21600" h="21600">
                <a:moveTo>
                  <a:pt x="-942" y="0"/>
                </a:moveTo>
                <a:lnTo>
                  <a:pt x="-94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Too open-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91440" y="4241880"/>
            <a:ext cx="224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603" y="22240"/>
                </a:moveTo>
                <a:lnTo>
                  <a:pt x="-663" y="4192"/>
                </a:lnTo>
              </a:path>
              <a:path w="21600" h="21600">
                <a:moveTo>
                  <a:pt x="-663" y="0"/>
                </a:moveTo>
                <a:lnTo>
                  <a:pt x="-66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Both magnitude and unit (in canonical un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Unit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rithmetic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nits combine appropriatel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rbitrary units combina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4040" y="2576880"/>
            <a:ext cx="803592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?y) (u-div (units 20 "km") (units 1 "h")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5.555555555555555, ?Y="m/s"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"km/h") (u-div (units 20 "km") (units 1 "h")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20.0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"km") (u* (units 20 "km/h") (units 1.5 "hr")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30.0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?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units ?x ?y) (u-div (units 1 "h") (units 20 "km")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0.18, ?Y="s/m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81760" y="2039760"/>
            <a:ext cx="2103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673" y="25299"/>
                </a:moveTo>
                <a:lnTo>
                  <a:pt x="-710" y="4296"/>
                </a:lnTo>
              </a:path>
              <a:path w="21600" h="21600">
                <a:moveTo>
                  <a:pt x="-710" y="0"/>
                </a:moveTo>
                <a:lnTo>
                  <a:pt x="-710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reates 20 km/h unit, a common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97680" y="5586480"/>
            <a:ext cx="19875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935" y="-1790"/>
                </a:moveTo>
                <a:lnTo>
                  <a:pt x="-751" y="4296"/>
                </a:lnTo>
              </a:path>
              <a:path w="21600" h="21600">
                <a:moveTo>
                  <a:pt x="-751" y="0"/>
                </a:moveTo>
                <a:lnTo>
                  <a:pt x="-75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reates 20h/km, a quite uncommon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72240" y="2949480"/>
            <a:ext cx="2313000" cy="4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53" y="11118"/>
                </a:moveTo>
                <a:lnTo>
                  <a:pt x="-646" y="4574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anonical internal re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0960" y="3960720"/>
            <a:ext cx="23115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82" y="10051"/>
                </a:moveTo>
                <a:lnTo>
                  <a:pt x="-646" y="7699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onverted back to 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40520" y="3930480"/>
            <a:ext cx="104472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3" y="-10051"/>
                </a:moveTo>
                <a:lnTo>
                  <a:pt x="-1428" y="7699"/>
                </a:lnTo>
              </a:path>
              <a:path w="21600" h="21600">
                <a:moveTo>
                  <a:pt x="-1428" y="0"/>
                </a:moveTo>
                <a:lnTo>
                  <a:pt x="-142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ynony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40520" y="3933720"/>
            <a:ext cx="104472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236" y="33362"/>
                </a:moveTo>
                <a:lnTo>
                  <a:pt x="-1428" y="7699"/>
                </a:lnTo>
              </a:path>
              <a:path w="21600" h="21600">
                <a:moveTo>
                  <a:pt x="-1428" y="0"/>
                </a:moveTo>
                <a:lnTo>
                  <a:pt x="-142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ynony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me Points and Durat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ime is an important aspect of the worl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owerLoom has support for exact time points and dura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ime point specification uses flexible strings and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imepoint-of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function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-339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ISO-8601 extended format for dates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-339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Many other (US-centric) date formats supported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"5-Jan-2000", "1/5/2000", "January 10, 1997", "now", "today", "yesterday"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-339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Time zones are specified numerically as offset from UTC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0">
              <a:lnSpc>
                <a:spcPct val="87000"/>
              </a:lnSpc>
              <a:spcAft>
                <a:spcPts val="388"/>
              </a:spcAft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3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, what you </a:t>
            </a:r>
            <a:r>
              <a:rPr b="1" lang="en-US" sz="1300" spc="-1" strike="noStrike">
                <a:solidFill>
                  <a:srgbClr val="3333ff"/>
                </a:solidFill>
                <a:latin typeface="Arial"/>
              </a:rPr>
              <a:t>add</a:t>
            </a: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 to UTC to get local time)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0">
              <a:lnSpc>
                <a:spcPct val="87000"/>
              </a:lnSpc>
              <a:spcAft>
                <a:spcPts val="388"/>
              </a:spcAft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Common time zone strings are also supported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C, Z, PST, EDT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3333ff"/>
                </a:solidFill>
                <a:latin typeface="Arial"/>
              </a:rPr>
              <a:t>Duration uses simple strings of days and milliseconds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and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duration-of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function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0">
              <a:lnSpc>
                <a:spcPct val="87000"/>
              </a:lnSpc>
              <a:spcAft>
                <a:spcPts val="388"/>
              </a:spcAft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"plus 5 days; 85000 ms", "minus 3 days; 0 ms"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2" marL="850320" indent="-33948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300" spc="-1" strike="noStrike">
                <a:solidFill>
                  <a:srgbClr val="3333ff"/>
                </a:solidFill>
                <a:latin typeface="Arial"/>
              </a:rPr>
              <a:t>Integrated and interchangeable with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MS Mincho"/>
              </a:rPr>
              <a:t>units</a:t>
            </a:r>
            <a:r>
              <a:rPr b="0" lang="en-US" sz="1300" spc="-1" strike="noStrike">
                <a:solidFill>
                  <a:srgbClr val="0000ff"/>
                </a:solidFill>
                <a:latin typeface="Arial"/>
              </a:rPr>
              <a:t> function</a:t>
            </a:r>
            <a:endParaRPr b="0" lang="en-US" sz="13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Arithmetic operations on time points and durations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Comparisons of time points or durations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396360" indent="-339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gration with Ontolog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Datatypes introduced via the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timepoint-of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 duration-of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functions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All logical operations and inferences work with time points and durations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-3409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Durations interoperate with the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units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function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2280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Time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ssertions and Comparis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71040" y="1547280"/>
            <a:ext cx="780444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19040" indent="-35928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S Mincho"/>
              </a:rPr>
              <a:t>timepoint-o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function introduces time point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MS Mincho"/>
              </a:rPr>
              <a:t>duration-of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function introduces duration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serti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arison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4880" y="2950920"/>
            <a:ext cx="804060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birthday Fred) (timepoint-of "2001-Jan-8 7:00Z"))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duration Project85) (duration-of "180 days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sert (= (duration Concert75) (duration-of "0 days; 7200000 ms"))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timepoint-of "2005-Jul-3"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(timepoint-of "2005-Jul-4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timepoint-of "2005-07-03T12:30Z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timepoint-of "2005-07-03T18:30+8:00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ALSE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ask (&lt; (timepoint-of "2006-10-May") (duration-of "2 days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KN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13480" y="2577960"/>
            <a:ext cx="230364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43" y="26261"/>
                </a:moveTo>
                <a:lnTo>
                  <a:pt x="-715" y="8185"/>
                </a:lnTo>
              </a:path>
              <a:path w="21600" h="21600">
                <a:moveTo>
                  <a:pt x="-715" y="0"/>
                </a:moveTo>
                <a:lnTo>
                  <a:pt x="-71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pecification (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00880" y="5137200"/>
            <a:ext cx="2442960" cy="5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141" y="22061"/>
                </a:moveTo>
                <a:lnTo>
                  <a:pt x="-611" y="4147"/>
                </a:lnTo>
              </a:path>
              <a:path w="21600" h="21600">
                <a:moveTo>
                  <a:pt x="-611" y="0"/>
                </a:moveTo>
                <a:lnTo>
                  <a:pt x="-61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compatible time types, so no meaningfu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39040" y="3794040"/>
            <a:ext cx="2404800" cy="55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538" y="13361"/>
                </a:moveTo>
                <a:lnTo>
                  <a:pt x="-621" y="4008"/>
                </a:lnTo>
              </a:path>
              <a:path w="21600" h="21600">
                <a:moveTo>
                  <a:pt x="-621" y="0"/>
                </a:moveTo>
                <a:lnTo>
                  <a:pt x="-621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omparisons normally give true or false ans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59400" y="2214720"/>
            <a:ext cx="2313000" cy="29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01" y="52686"/>
                </a:moveTo>
                <a:lnTo>
                  <a:pt x="-712" y="8229"/>
                </a:lnTo>
              </a:path>
              <a:path w="21600" h="21600">
                <a:moveTo>
                  <a:pt x="-712" y="0"/>
                </a:moveTo>
                <a:lnTo>
                  <a:pt x="-71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Type of time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45160" y="4540320"/>
            <a:ext cx="2405160" cy="31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25" y="24314"/>
                </a:moveTo>
                <a:lnTo>
                  <a:pt x="-684" y="7815"/>
                </a:lnTo>
              </a:path>
              <a:path w="21600" h="21600">
                <a:moveTo>
                  <a:pt x="-684" y="0"/>
                </a:moveTo>
                <a:lnTo>
                  <a:pt x="-684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Timezones are res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vantages of Logic-based Mode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eneral purpose, well-understood inference mechanisms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du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bdu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du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aint satisfaction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9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utomated reasoner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9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9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Time Durations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19040" indent="-3592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nvers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Durations and time units can be converted between each other.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658440" indent="-3603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ime points can be destructured using the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mepoint-of*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function 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4880" y="2851920"/>
            <a:ext cx="77328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duration-of ?x) (units 10 "day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"plus 10 days; 0 m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duration-of ?x) (units 2 "h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"plus 0 days; 7200000 ms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= (duration Concert75) (units ?x "h"))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#1: ?X=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= (duration Concert75) (units ?x ?y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X=7200.0, ?Y="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(= (timepoint-of* ?y ?m ?d ?hh ?mm ?ss "PST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timepoint-of "Feb/5/2002 00:25:30 EST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 so fa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Y=2002, ?M=2, ?D=4, ?HH=21, ?MM=25, ?SS=3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280" y="2851200"/>
            <a:ext cx="1852560" cy="29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09" y="8914"/>
                </a:moveTo>
                <a:lnTo>
                  <a:pt x="-888" y="8229"/>
                </a:lnTo>
              </a:path>
              <a:path w="21600" h="21600">
                <a:moveTo>
                  <a:pt x="-888" y="0"/>
                </a:moveTo>
                <a:lnTo>
                  <a:pt x="-88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Simple 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24520" y="3570120"/>
            <a:ext cx="2181240" cy="30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772" y="7617"/>
                </a:moveTo>
                <a:lnTo>
                  <a:pt x="-755" y="8185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More useful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12040" y="5726160"/>
            <a:ext cx="1585800" cy="76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168" y="3495"/>
                </a:moveTo>
                <a:lnTo>
                  <a:pt x="-1038" y="3227"/>
                </a:lnTo>
              </a:path>
              <a:path w="21600" h="21600">
                <a:moveTo>
                  <a:pt x="-1038" y="0"/>
                </a:moveTo>
                <a:lnTo>
                  <a:pt x="-103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Destructuring with time zone 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113600" y="4905360"/>
            <a:ext cx="1884240" cy="53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21" y="4743"/>
                </a:moveTo>
                <a:lnTo>
                  <a:pt x="-873" y="4615"/>
                </a:lnTo>
              </a:path>
              <a:path w="21600" h="21600">
                <a:moveTo>
                  <a:pt x="-873" y="0"/>
                </a:moveTo>
                <a:lnTo>
                  <a:pt x="-873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Magnitude and unit (canonical un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24640" y="4259160"/>
            <a:ext cx="1573200" cy="30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06" y="7657"/>
                </a:moveTo>
                <a:lnTo>
                  <a:pt x="-1046" y="8229"/>
                </a:lnTo>
              </a:path>
              <a:path w="21600" h="21600">
                <a:moveTo>
                  <a:pt x="-1046" y="0"/>
                </a:moveTo>
                <a:lnTo>
                  <a:pt x="-1046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Convert to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asoning with Time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71040" y="1677960"/>
            <a:ext cx="7804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rithmetic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Addition and Subtraction of points and durations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ime types combine appropriately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040" y="2576880"/>
            <a:ext cx="803592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time- (timepoint-of "2006-10-20"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(timepoint-of "2006-10-15"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(duration-of ?interval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INTERVAL="plus 5 days; 0 ms"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time+ (timepoint-of "2006-12-25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duration-of "12 days")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(timepoint-of ?date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DATE="2007-JAN-06 7:00:00.000 UTC"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retrieve all (time+ (duration-of "12 days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units ?n "h"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(duration-of "14 days")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here is 1 solution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1: ?N=48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72160" y="2778120"/>
            <a:ext cx="2413080" cy="52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49" y="4333"/>
                </a:moveTo>
                <a:lnTo>
                  <a:pt x="-682" y="4727"/>
                </a:lnTo>
              </a:path>
              <a:path w="21600" h="21600">
                <a:moveTo>
                  <a:pt x="-682" y="0"/>
                </a:moveTo>
                <a:lnTo>
                  <a:pt x="-68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mount of time between two time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6320" y="4898880"/>
            <a:ext cx="2428920" cy="27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200" y="21600"/>
                </a:moveTo>
                <a:lnTo>
                  <a:pt x="-678" y="9148"/>
                </a:lnTo>
              </a:path>
              <a:path w="21600" h="21600">
                <a:moveTo>
                  <a:pt x="-678" y="0"/>
                </a:moveTo>
                <a:lnTo>
                  <a:pt x="-678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Works together with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54640" y="3890880"/>
            <a:ext cx="273204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9" y="4320"/>
                </a:moveTo>
                <a:lnTo>
                  <a:pt x="-602" y="4642"/>
                </a:lnTo>
              </a:path>
              <a:path w="21600" h="21600">
                <a:moveTo>
                  <a:pt x="-602" y="0"/>
                </a:moveTo>
                <a:lnTo>
                  <a:pt x="-60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Adding a duration to a time points to get a new tim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35800" y="5253120"/>
            <a:ext cx="2449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155" y="-1196"/>
                </a:moveTo>
                <a:lnTo>
                  <a:pt x="-672" y="5066"/>
                </a:lnTo>
              </a:path>
              <a:path w="21600" h="21600">
                <a:moveTo>
                  <a:pt x="-672" y="0"/>
                </a:moveTo>
                <a:lnTo>
                  <a:pt x="-672" y="21600"/>
                </a:lnTo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Output variable can be in any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orward Inference (FIX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mple propositional reasoning, e.g.,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urier New"/>
              </a:rPr>
              <a:t>(or p q), ~p |= q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mple equality reasoning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rward skolemization, e.g.,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urier New"/>
              </a:rPr>
              <a:t>(forall (?x Person)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urier New"/>
              </a:rPr>
              <a:t>  (exists (?y Person) (mother-of ?x ?y))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90480" y="2782440"/>
            <a:ext cx="7742160" cy="1174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yNot Query Debuggi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71040" y="2695680"/>
            <a:ext cx="780444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93000"/>
              </a:lnSpc>
              <a:buNone/>
              <a:tabLst>
                <a:tab algn="l" pos="0"/>
                <a:tab algn="l" pos="289080"/>
                <a:tab algn="l" pos="696960"/>
                <a:tab algn="l" pos="1104840"/>
                <a:tab algn="l" pos="1511280"/>
                <a:tab algn="l" pos="1919160"/>
                <a:tab algn="l" pos="2327400"/>
                <a:tab algn="l" pos="2735280"/>
                <a:tab algn="l" pos="3141720"/>
                <a:tab algn="l" pos="3549600"/>
                <a:tab algn="l" pos="3957480"/>
                <a:tab algn="l" pos="4363920"/>
                <a:tab algn="l" pos="4772160"/>
                <a:tab algn="l" pos="5180040"/>
                <a:tab algn="l" pos="5587920"/>
                <a:tab algn="l" pos="5994360"/>
                <a:tab algn="l" pos="6402240"/>
                <a:tab algn="l" pos="6810480"/>
                <a:tab algn="l" pos="7216920"/>
                <a:tab algn="l" pos="7624800"/>
                <a:tab algn="l" pos="80326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84240" y="372960"/>
            <a:ext cx="7029360" cy="89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Debugging Queries in Large KB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69480" y="1463760"/>
            <a:ext cx="7688520" cy="1473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t">
            <a:normAutofit fontScale="87000"/>
          </a:bodyPr>
          <a:p>
            <a:pPr marL="267480" indent="-267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Logic-based knowledge representation &amp; reasoning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2" marL="901800" indent="-18072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Use language of some logic L to represent knowledge (e.g., KIF)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2" marL="901800" indent="-18072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Use implementation of proof procedure for L as reasoning engine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267480" indent="-2674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ome (partially) developed knowledge bas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98560" y="3071880"/>
            <a:ext cx="58071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acts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erson fred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(citizen-of fred german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(national-language-of germany ger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74800" y="4052880"/>
            <a:ext cx="6132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ules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all (?p ?c ?l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(=&gt; (and (person ?p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(citizen-of ?p ?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(national-language-of ?c ?l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(speaks-language ?p ?l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65440" y="5529240"/>
            <a:ext cx="4937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Queries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peaks-language fred german)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(speaks-language fred french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702480" y="5535720"/>
            <a:ext cx="1172880" cy="311400"/>
            <a:chOff x="6702480" y="5535720"/>
            <a:chExt cx="1172880" cy="311400"/>
          </a:xfrm>
        </p:grpSpPr>
        <p:sp>
          <p:nvSpPr>
            <p:cNvPr id="429" name=""/>
            <p:cNvSpPr/>
            <p:nvPr/>
          </p:nvSpPr>
          <p:spPr>
            <a:xfrm>
              <a:off x="7076880" y="5535720"/>
              <a:ext cx="7984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500" spc="-1" strike="noStrike">
                  <a:solidFill>
                    <a:srgbClr val="00ff00"/>
                  </a:solidFill>
                  <a:latin typeface="Arial"/>
                </a:rPr>
                <a:t>TR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2480" y="5641200"/>
              <a:ext cx="341280" cy="96840"/>
            </a:xfrm>
            <a:prstGeom prst="rightArrow">
              <a:avLst>
                <a:gd name="adj1" fmla="val 50000"/>
                <a:gd name="adj2" fmla="val 881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702480" y="5803920"/>
            <a:ext cx="1697040" cy="311400"/>
            <a:chOff x="6702480" y="5803920"/>
            <a:chExt cx="1697040" cy="311400"/>
          </a:xfrm>
        </p:grpSpPr>
        <p:sp>
          <p:nvSpPr>
            <p:cNvPr id="432" name=""/>
            <p:cNvSpPr/>
            <p:nvPr/>
          </p:nvSpPr>
          <p:spPr>
            <a:xfrm>
              <a:off x="7077240" y="5803920"/>
              <a:ext cx="1322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500" spc="-1" strike="noStrike">
                  <a:solidFill>
                    <a:srgbClr val="ff3300"/>
                  </a:solidFill>
                  <a:latin typeface="Arial"/>
                </a:rPr>
                <a:t>UNKNOW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2480" y="5908680"/>
              <a:ext cx="341280" cy="96840"/>
            </a:xfrm>
            <a:prstGeom prst="rightArrow">
              <a:avLst>
                <a:gd name="adj1" fmla="val 50000"/>
                <a:gd name="adj2" fmla="val 881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84240" y="372960"/>
            <a:ext cx="7029360" cy="89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0320" y="2174400"/>
            <a:ext cx="6883200" cy="121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0320" bIns="40320" anchor="t">
            <a:normAutofit/>
          </a:bodyPr>
          <a:p>
            <a:pPr marL="30780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0"/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iagnosis is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simpl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: the query failed becaus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671400" indent="-257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Not asserted as a fac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1400" indent="-257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Not enough facts to infer it via the known rul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671400" indent="-257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pen world assumption!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49400" y="1608120"/>
            <a:ext cx="5263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ailed query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peaks-language fred french)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426360" y="1622520"/>
            <a:ext cx="1671480" cy="311400"/>
            <a:chOff x="6426360" y="1622520"/>
            <a:chExt cx="1671480" cy="311400"/>
          </a:xfrm>
        </p:grpSpPr>
        <p:sp>
          <p:nvSpPr>
            <p:cNvPr id="438" name=""/>
            <p:cNvSpPr/>
            <p:nvPr/>
          </p:nvSpPr>
          <p:spPr>
            <a:xfrm>
              <a:off x="6800760" y="1622520"/>
              <a:ext cx="1297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500" spc="-1" strike="noStrike">
                  <a:solidFill>
                    <a:srgbClr val="ff3300"/>
                  </a:solidFill>
                  <a:latin typeface="Arial"/>
                </a:rPr>
                <a:t>UNKNOW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26360" y="1727280"/>
              <a:ext cx="341280" cy="96840"/>
            </a:xfrm>
            <a:prstGeom prst="rightArrow">
              <a:avLst>
                <a:gd name="adj1" fmla="val 50000"/>
                <a:gd name="adj2" fmla="val 881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049400" y="3562200"/>
            <a:ext cx="7549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307800" indent="-307800">
              <a:lnSpc>
                <a:spcPct val="87000"/>
              </a:lnSpc>
              <a:spcAft>
                <a:spcPts val="638"/>
              </a:spcAft>
              <a:tabLst>
                <a:tab algn="l" pos="0"/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HG Mincho Light J"/>
              </a:rPr>
              <a:t>Ask similar query in Cyc (1,000,000 facts, 35,000 rul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7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“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Does Doug Lenat speak German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7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Answer: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HG Mincho Light J"/>
              </a:rPr>
              <a:t>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HG Mincho Light J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4646520"/>
            <a:ext cx="7826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307800" indent="-307800">
              <a:lnSpc>
                <a:spcPct val="87000"/>
              </a:lnSpc>
              <a:spcAft>
                <a:spcPts val="638"/>
              </a:spcAft>
              <a:tabLst>
                <a:tab algn="l" pos="0"/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HG Mincho Light J"/>
              </a:rPr>
              <a:t>Diagnosis i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  <a:ea typeface="HG Mincho Light J"/>
              </a:rPr>
              <a:t>very difficult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HG Mincho Light J"/>
              </a:rPr>
              <a:t>: the query failed bec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7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Not asserted as a f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704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All attempts to infer the answer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6800" indent="-2080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Search tree explored by Cyc is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  <a:ea typeface="HG Mincho Light J"/>
              </a:rPr>
              <a:t>very large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, timeout at 30 CPU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7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1120"/>
                <a:tab algn="l" pos="826920"/>
                <a:tab algn="l" pos="1241280"/>
                <a:tab algn="l" pos="1655640"/>
                <a:tab algn="l" pos="2070000"/>
                <a:tab algn="l" pos="2486160"/>
                <a:tab algn="l" pos="2900520"/>
                <a:tab algn="l" pos="3314880"/>
                <a:tab algn="l" pos="3728880"/>
                <a:tab algn="l" pos="4145040"/>
                <a:tab algn="l" pos="4559400"/>
                <a:tab algn="l" pos="4973760"/>
                <a:tab algn="l" pos="5388120"/>
                <a:tab algn="l" pos="5803920"/>
                <a:tab algn="l" pos="6218280"/>
                <a:tab algn="l" pos="6632640"/>
                <a:tab algn="l" pos="7047000"/>
                <a:tab algn="l" pos="7462800"/>
                <a:tab algn="l" pos="7877160"/>
                <a:tab algn="l" pos="829152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HG Mincho Light J"/>
              </a:rPr>
              <a:t>Hard to debug for knowledge engineers, impossible for non-exp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olution: Explaining Query Failures via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lausible Partial Proof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69840" y="1550880"/>
            <a:ext cx="760896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61360" indent="-2613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tandard explanation technique for logic-based reasoner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Find and record a proo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for the quer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Present the proof to the user in an understandable wa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1" lang="en-GB" sz="1600" spc="-1" strike="noStrike">
                <a:solidFill>
                  <a:srgbClr val="ef2d0d"/>
                </a:solidFill>
                <a:latin typeface="Arial"/>
              </a:rPr>
              <a:t>Problem: No proof </a:t>
            </a:r>
            <a:r>
              <a:rPr b="1" lang="en-GB" sz="1600" spc="-1" strike="noStrike">
                <a:solidFill>
                  <a:srgbClr val="ef2d0d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ef2d0d"/>
                </a:solidFill>
                <a:latin typeface="Arial"/>
              </a:rPr>
              <a:t> no explanation</a:t>
            </a:r>
            <a:br>
              <a:rPr sz="1500"/>
            </a:br>
            <a:r>
              <a:rPr b="1" lang="en-GB" sz="1500" spc="-1" strike="noStrike">
                <a:solidFill>
                  <a:srgbClr val="ef2d0d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261360" indent="-2613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olution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Need to create a proof even though none could be fou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61360" indent="-2613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enerat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lausible partia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proofs for a query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tial proofs can be explaine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of "holes" identify potential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knowledge or inference gap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ultiple plausible partial proofs to explain different failure mod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op-ranked partial proofs focus on most plausible failures </a:t>
            </a:r>
            <a:br>
              <a:rPr sz="1500"/>
            </a:b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ff"/>
              </a:solidFill>
              <a:latin typeface="Arial"/>
            </a:endParaRPr>
          </a:p>
          <a:p>
            <a:pPr marL="261360" indent="-26136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at is a </a:t>
            </a: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lausibl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partial proof?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70600" indent="-21816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Scalin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 find plausible proofs without looking at too many options</a:t>
            </a:r>
            <a:br>
              <a:rPr sz="1600"/>
            </a:br>
            <a:r>
              <a:rPr b="0" lang="en-US" sz="1600" spc="-1" strike="noStrike">
                <a:solidFill>
                  <a:srgbClr val="ef2d0d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ef2d0d"/>
                </a:solidFill>
                <a:latin typeface="Arial"/>
              </a:rPr>
              <a:t> there are infinitely many possible proofs!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6136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ample Explanation of Query Fail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95560" y="1486080"/>
            <a:ext cx="67705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3840" y="123480"/>
            <a:ext cx="82501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werLoom’s “WhyNot” Query Diagnosis Too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9840" y="1550880"/>
            <a:ext cx="717552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70720" indent="-270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werLoom KR&amp;R syst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irst-order-logic-based KR&amp;R system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ation language is KIF (variant of FOL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Natural deduction reasoner combining forward, backward reasoning plus variety of reasoning specialis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ype &amp; cardinality reasoning, relation subsumption, classifier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lective closed-world reasoning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dules and light-weight worlds for hypothetical reasoning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70720" indent="-270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yNot”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built into inference engine of PowerLoo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artial inference mod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to generate plausible partial proof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core propagation instead of truth-valu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590760" indent="-22608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arious plausibility heuristics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270720" indent="-270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owerLo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explanation componen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used to explain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ial proofs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270720" indent="-27072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nly diagnosis of missing facts at the moment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016680"/>
            <a:ext cx="914400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83880" y="450720"/>
            <a:ext cx="762948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yNot” Plug-in to Debug Queries i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arge Cyc Knowledge Bas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69840" y="1550880"/>
            <a:ext cx="78487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c-based KRAKEN KA Too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put and output in natural languag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very large amount of background knowledge (over 1,000,000 facts, O(10,000) rule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query diagnosis is very difficult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werLoom “WhyNot”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knowledge source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grated via blackboard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ynamically fetches a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anslates Cyc knowledg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erforms partial inference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gainst very large KB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npoints potential 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nowledge gap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hips explanations to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KRAKEN UIA display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351480" y="5872320"/>
            <a:ext cx="1095480" cy="879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072120" y="2825640"/>
            <a:ext cx="2951280" cy="1787760"/>
          </a:xfrm>
          <a:prstGeom prst="roundRect">
            <a:avLst>
              <a:gd name="adj" fmla="val 37"/>
            </a:avLst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13520" y="3471840"/>
            <a:ext cx="2868480" cy="509760"/>
          </a:xfrm>
          <a:prstGeom prst="roundRect">
            <a:avLst>
              <a:gd name="adj" fmla="val 157"/>
            </a:avLst>
          </a:prstGeom>
          <a:solidFill>
            <a:srgbClr val="6abd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96120" y="3471840"/>
            <a:ext cx="2222280" cy="314280"/>
          </a:xfrm>
          <a:prstGeom prst="roundRect">
            <a:avLst>
              <a:gd name="adj" fmla="val 259"/>
            </a:avLst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13520" y="4022640"/>
            <a:ext cx="1231920" cy="352440"/>
          </a:xfrm>
          <a:prstGeom prst="roundRect">
            <a:avLst>
              <a:gd name="adj" fmla="val 231"/>
            </a:avLst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05560" y="4022640"/>
            <a:ext cx="1212840" cy="352440"/>
          </a:xfrm>
          <a:prstGeom prst="roundRect">
            <a:avLst>
              <a:gd name="adj" fmla="val 231"/>
            </a:avLst>
          </a:prstGeom>
          <a:solidFill>
            <a:srgbClr val="66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3520" y="4376880"/>
            <a:ext cx="1231920" cy="195120"/>
          </a:xfrm>
          <a:prstGeom prst="roundRect">
            <a:avLst>
              <a:gd name="adj" fmla="val 417"/>
            </a:avLst>
          </a:prstGeom>
          <a:solidFill>
            <a:srgbClr val="33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37240" y="5357880"/>
            <a:ext cx="4244760" cy="312840"/>
          </a:xfrm>
          <a:prstGeom prst="roundRect">
            <a:avLst>
              <a:gd name="adj" fmla="val 259"/>
            </a:avLst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37240" y="5122800"/>
            <a:ext cx="4244760" cy="233280"/>
          </a:xfrm>
          <a:prstGeom prst="roundRect">
            <a:avLst>
              <a:gd name="adj" fmla="val 347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19680" y="5394240"/>
            <a:ext cx="40831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279f"/>
                </a:solidFill>
                <a:latin typeface="Arial"/>
              </a:rPr>
              <a:t>Cyc Integrated Knowledge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53360" y="5127480"/>
            <a:ext cx="8542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279f"/>
                </a:solidFill>
                <a:latin typeface="Arial"/>
              </a:rPr>
              <a:t>Cyc AP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11920" y="5083200"/>
            <a:ext cx="1938240" cy="195120"/>
          </a:xfrm>
          <a:prstGeom prst="roundRect">
            <a:avLst>
              <a:gd name="adj" fmla="val 417"/>
            </a:avLst>
          </a:prstGeom>
          <a:solidFill>
            <a:srgbClr val="ff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8280" y="5065560"/>
            <a:ext cx="18226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00279f"/>
                </a:solidFill>
                <a:latin typeface="Arial"/>
              </a:rPr>
              <a:t>PL/Cyc Knowledge Pager 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51600" y="4376880"/>
            <a:ext cx="13334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00279f"/>
                </a:solidFill>
                <a:latin typeface="Arial"/>
              </a:rPr>
              <a:t>OntoMorph Transl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53120" y="4019400"/>
            <a:ext cx="11286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00279f"/>
                </a:solidFill>
                <a:latin typeface="Arial"/>
              </a:rPr>
              <a:t>PL/Cyc </a:t>
            </a:r>
            <a:br>
              <a:rPr sz="900"/>
            </a:br>
            <a:r>
              <a:rPr b="0" lang="en-GB" sz="900" spc="-1" strike="noStrike">
                <a:solidFill>
                  <a:srgbClr val="00279f"/>
                </a:solidFill>
                <a:latin typeface="Arial"/>
              </a:rPr>
              <a:t>KB-Store/ Ca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86560" y="4062240"/>
            <a:ext cx="1092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PowerLoom </a:t>
            </a:r>
            <a:br>
              <a:rPr sz="700"/>
            </a:b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KB-Sto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92720" y="3787920"/>
            <a:ext cx="26672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00279f"/>
                </a:solidFill>
                <a:latin typeface="Arial"/>
              </a:rPr>
              <a:t>PowerLoom KB Index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75320" y="3421080"/>
            <a:ext cx="2103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279f"/>
                </a:solidFill>
                <a:latin typeface="Arial"/>
              </a:rPr>
              <a:t>PowerLoom</a:t>
            </a:r>
            <a:br>
              <a:rPr sz="1100"/>
            </a:br>
            <a:r>
              <a:rPr b="0" lang="en-GB" sz="1100" spc="-1" strike="noStrike">
                <a:solidFill>
                  <a:srgbClr val="00279f"/>
                </a:solidFill>
                <a:latin typeface="Arial"/>
              </a:rPr>
              <a:t>Inference Eng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822920" y="3554280"/>
            <a:ext cx="1049400" cy="863640"/>
            <a:chOff x="4822920" y="3554280"/>
            <a:chExt cx="1049400" cy="863640"/>
          </a:xfrm>
        </p:grpSpPr>
        <p:sp>
          <p:nvSpPr>
            <p:cNvPr id="470" name=""/>
            <p:cNvSpPr/>
            <p:nvPr/>
          </p:nvSpPr>
          <p:spPr>
            <a:xfrm>
              <a:off x="4989600" y="3554280"/>
              <a:ext cx="882720" cy="726840"/>
            </a:xfrm>
            <a:custGeom>
              <a:avLst/>
              <a:gdLst/>
              <a:ahLst/>
              <a:rect l="l" t="t" r="r" b="b"/>
              <a:pathLst>
                <a:path w="4627" h="3917">
                  <a:moveTo>
                    <a:pt x="0" y="3664"/>
                  </a:moveTo>
                  <a:lnTo>
                    <a:pt x="56" y="3682"/>
                  </a:lnTo>
                  <a:lnTo>
                    <a:pt x="135" y="3712"/>
                  </a:lnTo>
                  <a:lnTo>
                    <a:pt x="216" y="3731"/>
                  </a:lnTo>
                  <a:lnTo>
                    <a:pt x="297" y="3749"/>
                  </a:lnTo>
                  <a:lnTo>
                    <a:pt x="433" y="3790"/>
                  </a:lnTo>
                  <a:lnTo>
                    <a:pt x="513" y="3808"/>
                  </a:lnTo>
                  <a:lnTo>
                    <a:pt x="592" y="3819"/>
                  </a:lnTo>
                  <a:lnTo>
                    <a:pt x="652" y="3838"/>
                  </a:lnTo>
                  <a:lnTo>
                    <a:pt x="722" y="3849"/>
                  </a:lnTo>
                  <a:lnTo>
                    <a:pt x="779" y="3868"/>
                  </a:lnTo>
                  <a:lnTo>
                    <a:pt x="833" y="3868"/>
                  </a:lnTo>
                  <a:lnTo>
                    <a:pt x="893" y="3876"/>
                  </a:lnTo>
                  <a:lnTo>
                    <a:pt x="963" y="3886"/>
                  </a:lnTo>
                  <a:lnTo>
                    <a:pt x="1020" y="3905"/>
                  </a:lnTo>
                  <a:lnTo>
                    <a:pt x="1077" y="3916"/>
                  </a:lnTo>
                  <a:lnTo>
                    <a:pt x="1112" y="3916"/>
                  </a:lnTo>
                  <a:lnTo>
                    <a:pt x="1147" y="3916"/>
                  </a:lnTo>
                  <a:lnTo>
                    <a:pt x="1191" y="3916"/>
                  </a:lnTo>
                  <a:lnTo>
                    <a:pt x="1213" y="3916"/>
                  </a:lnTo>
                  <a:lnTo>
                    <a:pt x="1261" y="3916"/>
                  </a:lnTo>
                  <a:lnTo>
                    <a:pt x="1283" y="3916"/>
                  </a:lnTo>
                  <a:lnTo>
                    <a:pt x="1318" y="3916"/>
                  </a:lnTo>
                  <a:lnTo>
                    <a:pt x="1340" y="3916"/>
                  </a:lnTo>
                  <a:lnTo>
                    <a:pt x="1375" y="3905"/>
                  </a:lnTo>
                  <a:lnTo>
                    <a:pt x="1400" y="3905"/>
                  </a:lnTo>
                  <a:lnTo>
                    <a:pt x="1419" y="3905"/>
                  </a:lnTo>
                  <a:lnTo>
                    <a:pt x="1445" y="3905"/>
                  </a:lnTo>
                  <a:lnTo>
                    <a:pt x="1467" y="3905"/>
                  </a:lnTo>
                  <a:lnTo>
                    <a:pt x="1492" y="3897"/>
                  </a:lnTo>
                  <a:lnTo>
                    <a:pt x="1502" y="3897"/>
                  </a:lnTo>
                  <a:lnTo>
                    <a:pt x="1524" y="3897"/>
                  </a:lnTo>
                  <a:lnTo>
                    <a:pt x="1559" y="3886"/>
                  </a:lnTo>
                  <a:lnTo>
                    <a:pt x="1594" y="3886"/>
                  </a:lnTo>
                  <a:lnTo>
                    <a:pt x="1616" y="3876"/>
                  </a:lnTo>
                  <a:lnTo>
                    <a:pt x="1641" y="3876"/>
                  </a:lnTo>
                  <a:lnTo>
                    <a:pt x="1673" y="3868"/>
                  </a:lnTo>
                  <a:lnTo>
                    <a:pt x="1686" y="3868"/>
                  </a:lnTo>
                  <a:lnTo>
                    <a:pt x="1743" y="3868"/>
                  </a:lnTo>
                  <a:lnTo>
                    <a:pt x="1790" y="3859"/>
                  </a:lnTo>
                  <a:lnTo>
                    <a:pt x="1825" y="3849"/>
                  </a:lnTo>
                  <a:lnTo>
                    <a:pt x="1870" y="3838"/>
                  </a:lnTo>
                  <a:lnTo>
                    <a:pt x="1927" y="3819"/>
                  </a:lnTo>
                  <a:lnTo>
                    <a:pt x="2005" y="3798"/>
                  </a:lnTo>
                  <a:lnTo>
                    <a:pt x="2053" y="3779"/>
                  </a:lnTo>
                  <a:lnTo>
                    <a:pt x="2097" y="3771"/>
                  </a:lnTo>
                  <a:lnTo>
                    <a:pt x="2179" y="3741"/>
                  </a:lnTo>
                  <a:lnTo>
                    <a:pt x="2259" y="3712"/>
                  </a:lnTo>
                  <a:lnTo>
                    <a:pt x="2294" y="3701"/>
                  </a:lnTo>
                  <a:lnTo>
                    <a:pt x="2338" y="3672"/>
                  </a:lnTo>
                  <a:lnTo>
                    <a:pt x="2373" y="3664"/>
                  </a:lnTo>
                  <a:lnTo>
                    <a:pt x="2408" y="3645"/>
                  </a:lnTo>
                  <a:lnTo>
                    <a:pt x="2500" y="3615"/>
                  </a:lnTo>
                  <a:lnTo>
                    <a:pt x="2579" y="3594"/>
                  </a:lnTo>
                  <a:lnTo>
                    <a:pt x="2661" y="3567"/>
                  </a:lnTo>
                  <a:lnTo>
                    <a:pt x="2706" y="3537"/>
                  </a:lnTo>
                  <a:lnTo>
                    <a:pt x="2753" y="3516"/>
                  </a:lnTo>
                  <a:lnTo>
                    <a:pt x="2788" y="3509"/>
                  </a:lnTo>
                  <a:lnTo>
                    <a:pt x="2832" y="3490"/>
                  </a:lnTo>
                  <a:lnTo>
                    <a:pt x="2924" y="3461"/>
                  </a:lnTo>
                  <a:lnTo>
                    <a:pt x="2972" y="3441"/>
                  </a:lnTo>
                  <a:lnTo>
                    <a:pt x="3016" y="3419"/>
                  </a:lnTo>
                  <a:lnTo>
                    <a:pt x="3064" y="3412"/>
                  </a:lnTo>
                  <a:lnTo>
                    <a:pt x="3108" y="3390"/>
                  </a:lnTo>
                  <a:lnTo>
                    <a:pt x="3153" y="3371"/>
                  </a:lnTo>
                  <a:lnTo>
                    <a:pt x="3213" y="3364"/>
                  </a:lnTo>
                  <a:lnTo>
                    <a:pt x="3257" y="3342"/>
                  </a:lnTo>
                  <a:lnTo>
                    <a:pt x="3305" y="3324"/>
                  </a:lnTo>
                  <a:lnTo>
                    <a:pt x="3362" y="3313"/>
                  </a:lnTo>
                  <a:lnTo>
                    <a:pt x="3419" y="3293"/>
                  </a:lnTo>
                  <a:lnTo>
                    <a:pt x="3476" y="3275"/>
                  </a:lnTo>
                  <a:lnTo>
                    <a:pt x="3533" y="3254"/>
                  </a:lnTo>
                  <a:lnTo>
                    <a:pt x="3590" y="3254"/>
                  </a:lnTo>
                  <a:lnTo>
                    <a:pt x="3647" y="3246"/>
                  </a:lnTo>
                  <a:lnTo>
                    <a:pt x="3708" y="3235"/>
                  </a:lnTo>
                  <a:lnTo>
                    <a:pt x="3765" y="3216"/>
                  </a:lnTo>
                  <a:lnTo>
                    <a:pt x="3819" y="3208"/>
                  </a:lnTo>
                  <a:lnTo>
                    <a:pt x="3879" y="3198"/>
                  </a:lnTo>
                  <a:lnTo>
                    <a:pt x="3949" y="3176"/>
                  </a:lnTo>
                  <a:lnTo>
                    <a:pt x="4015" y="3168"/>
                  </a:lnTo>
                  <a:lnTo>
                    <a:pt x="4085" y="3168"/>
                  </a:lnTo>
                  <a:lnTo>
                    <a:pt x="4154" y="3168"/>
                  </a:lnTo>
                  <a:lnTo>
                    <a:pt x="4220" y="3160"/>
                  </a:lnTo>
                  <a:lnTo>
                    <a:pt x="4303" y="3160"/>
                  </a:lnTo>
                  <a:lnTo>
                    <a:pt x="4385" y="3160"/>
                  </a:lnTo>
                  <a:lnTo>
                    <a:pt x="4452" y="3160"/>
                  </a:lnTo>
                  <a:lnTo>
                    <a:pt x="4534" y="3160"/>
                  </a:lnTo>
                  <a:lnTo>
                    <a:pt x="4626" y="3149"/>
                  </a:lnTo>
                  <a:lnTo>
                    <a:pt x="4626" y="0"/>
                  </a:lnTo>
                  <a:lnTo>
                    <a:pt x="0" y="0"/>
                  </a:lnTo>
                  <a:lnTo>
                    <a:pt x="0" y="3664"/>
                  </a:lnTo>
                </a:path>
              </a:pathLst>
            </a:custGeom>
            <a:solidFill>
              <a:srgbClr val="96969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06080" y="3621960"/>
              <a:ext cx="882360" cy="726840"/>
            </a:xfrm>
            <a:custGeom>
              <a:avLst/>
              <a:gdLst/>
              <a:ahLst/>
              <a:rect l="l" t="t" r="r" b="b"/>
              <a:pathLst>
                <a:path w="4626" h="3917">
                  <a:moveTo>
                    <a:pt x="0" y="3663"/>
                  </a:moveTo>
                  <a:lnTo>
                    <a:pt x="56" y="3685"/>
                  </a:lnTo>
                  <a:lnTo>
                    <a:pt x="135" y="3712"/>
                  </a:lnTo>
                  <a:lnTo>
                    <a:pt x="214" y="3733"/>
                  </a:lnTo>
                  <a:lnTo>
                    <a:pt x="297" y="3752"/>
                  </a:lnTo>
                  <a:lnTo>
                    <a:pt x="436" y="3789"/>
                  </a:lnTo>
                  <a:lnTo>
                    <a:pt x="515" y="3811"/>
                  </a:lnTo>
                  <a:lnTo>
                    <a:pt x="595" y="3822"/>
                  </a:lnTo>
                  <a:lnTo>
                    <a:pt x="652" y="3840"/>
                  </a:lnTo>
                  <a:lnTo>
                    <a:pt x="721" y="3848"/>
                  </a:lnTo>
                  <a:lnTo>
                    <a:pt x="778" y="3867"/>
                  </a:lnTo>
                  <a:lnTo>
                    <a:pt x="836" y="3867"/>
                  </a:lnTo>
                  <a:lnTo>
                    <a:pt x="893" y="3878"/>
                  </a:lnTo>
                  <a:lnTo>
                    <a:pt x="962" y="3889"/>
                  </a:lnTo>
                  <a:lnTo>
                    <a:pt x="1019" y="3908"/>
                  </a:lnTo>
                  <a:lnTo>
                    <a:pt x="1077" y="3916"/>
                  </a:lnTo>
                  <a:lnTo>
                    <a:pt x="1111" y="3916"/>
                  </a:lnTo>
                  <a:lnTo>
                    <a:pt x="1146" y="3916"/>
                  </a:lnTo>
                  <a:lnTo>
                    <a:pt x="1191" y="3916"/>
                  </a:lnTo>
                  <a:lnTo>
                    <a:pt x="1216" y="3916"/>
                  </a:lnTo>
                  <a:lnTo>
                    <a:pt x="1260" y="3916"/>
                  </a:lnTo>
                  <a:lnTo>
                    <a:pt x="1283" y="3916"/>
                  </a:lnTo>
                  <a:lnTo>
                    <a:pt x="1317" y="3916"/>
                  </a:lnTo>
                  <a:lnTo>
                    <a:pt x="1343" y="3916"/>
                  </a:lnTo>
                  <a:lnTo>
                    <a:pt x="1375" y="3908"/>
                  </a:lnTo>
                  <a:lnTo>
                    <a:pt x="1400" y="3908"/>
                  </a:lnTo>
                  <a:lnTo>
                    <a:pt x="1422" y="3908"/>
                  </a:lnTo>
                  <a:lnTo>
                    <a:pt x="1444" y="3908"/>
                  </a:lnTo>
                  <a:lnTo>
                    <a:pt x="1466" y="3908"/>
                  </a:lnTo>
                  <a:lnTo>
                    <a:pt x="1492" y="3899"/>
                  </a:lnTo>
                  <a:lnTo>
                    <a:pt x="1505" y="3899"/>
                  </a:lnTo>
                  <a:lnTo>
                    <a:pt x="1524" y="3899"/>
                  </a:lnTo>
                  <a:lnTo>
                    <a:pt x="1558" y="3889"/>
                  </a:lnTo>
                  <a:lnTo>
                    <a:pt x="1596" y="3889"/>
                  </a:lnTo>
                  <a:lnTo>
                    <a:pt x="1615" y="3878"/>
                  </a:lnTo>
                  <a:lnTo>
                    <a:pt x="1641" y="3878"/>
                  </a:lnTo>
                  <a:lnTo>
                    <a:pt x="1676" y="3867"/>
                  </a:lnTo>
                  <a:lnTo>
                    <a:pt x="1685" y="3867"/>
                  </a:lnTo>
                  <a:lnTo>
                    <a:pt x="1745" y="3867"/>
                  </a:lnTo>
                  <a:lnTo>
                    <a:pt x="1790" y="3859"/>
                  </a:lnTo>
                  <a:lnTo>
                    <a:pt x="1825" y="3848"/>
                  </a:lnTo>
                  <a:lnTo>
                    <a:pt x="1869" y="3840"/>
                  </a:lnTo>
                  <a:lnTo>
                    <a:pt x="1929" y="3822"/>
                  </a:lnTo>
                  <a:lnTo>
                    <a:pt x="2009" y="3800"/>
                  </a:lnTo>
                  <a:lnTo>
                    <a:pt x="2053" y="3781"/>
                  </a:lnTo>
                  <a:lnTo>
                    <a:pt x="2097" y="3773"/>
                  </a:lnTo>
                  <a:lnTo>
                    <a:pt x="2180" y="3741"/>
                  </a:lnTo>
                  <a:lnTo>
                    <a:pt x="2261" y="3712"/>
                  </a:lnTo>
                  <a:lnTo>
                    <a:pt x="2293" y="3704"/>
                  </a:lnTo>
                  <a:lnTo>
                    <a:pt x="2341" y="3674"/>
                  </a:lnTo>
                  <a:lnTo>
                    <a:pt x="2375" y="3663"/>
                  </a:lnTo>
                  <a:lnTo>
                    <a:pt x="2410" y="3644"/>
                  </a:lnTo>
                  <a:lnTo>
                    <a:pt x="2502" y="3618"/>
                  </a:lnTo>
                  <a:lnTo>
                    <a:pt x="2581" y="3596"/>
                  </a:lnTo>
                  <a:lnTo>
                    <a:pt x="2661" y="3567"/>
                  </a:lnTo>
                  <a:lnTo>
                    <a:pt x="2708" y="3537"/>
                  </a:lnTo>
                  <a:lnTo>
                    <a:pt x="2753" y="3519"/>
                  </a:lnTo>
                  <a:lnTo>
                    <a:pt x="2788" y="3509"/>
                  </a:lnTo>
                  <a:lnTo>
                    <a:pt x="2835" y="3492"/>
                  </a:lnTo>
                  <a:lnTo>
                    <a:pt x="2924" y="3459"/>
                  </a:lnTo>
                  <a:lnTo>
                    <a:pt x="2971" y="3441"/>
                  </a:lnTo>
                  <a:lnTo>
                    <a:pt x="3016" y="3422"/>
                  </a:lnTo>
                  <a:lnTo>
                    <a:pt x="3063" y="3412"/>
                  </a:lnTo>
                  <a:lnTo>
                    <a:pt x="3108" y="3393"/>
                  </a:lnTo>
                  <a:lnTo>
                    <a:pt x="3155" y="3373"/>
                  </a:lnTo>
                  <a:lnTo>
                    <a:pt x="3212" y="3364"/>
                  </a:lnTo>
                  <a:lnTo>
                    <a:pt x="3257" y="3344"/>
                  </a:lnTo>
                  <a:lnTo>
                    <a:pt x="3304" y="3326"/>
                  </a:lnTo>
                  <a:lnTo>
                    <a:pt x="3361" y="3315"/>
                  </a:lnTo>
                  <a:lnTo>
                    <a:pt x="3422" y="3297"/>
                  </a:lnTo>
                  <a:lnTo>
                    <a:pt x="3479" y="3278"/>
                  </a:lnTo>
                  <a:lnTo>
                    <a:pt x="3533" y="3256"/>
                  </a:lnTo>
                  <a:lnTo>
                    <a:pt x="3590" y="3256"/>
                  </a:lnTo>
                  <a:lnTo>
                    <a:pt x="3650" y="3248"/>
                  </a:lnTo>
                  <a:lnTo>
                    <a:pt x="3707" y="3237"/>
                  </a:lnTo>
                  <a:lnTo>
                    <a:pt x="3764" y="3216"/>
                  </a:lnTo>
                  <a:lnTo>
                    <a:pt x="3821" y="3208"/>
                  </a:lnTo>
                  <a:lnTo>
                    <a:pt x="3878" y="3200"/>
                  </a:lnTo>
                  <a:lnTo>
                    <a:pt x="3948" y="3178"/>
                  </a:lnTo>
                  <a:lnTo>
                    <a:pt x="4015" y="3170"/>
                  </a:lnTo>
                  <a:lnTo>
                    <a:pt x="4084" y="3170"/>
                  </a:lnTo>
                  <a:lnTo>
                    <a:pt x="4154" y="3170"/>
                  </a:lnTo>
                  <a:lnTo>
                    <a:pt x="4223" y="3160"/>
                  </a:lnTo>
                  <a:lnTo>
                    <a:pt x="4303" y="3160"/>
                  </a:lnTo>
                  <a:lnTo>
                    <a:pt x="4385" y="3160"/>
                  </a:lnTo>
                  <a:lnTo>
                    <a:pt x="4451" y="3160"/>
                  </a:lnTo>
                  <a:lnTo>
                    <a:pt x="4534" y="3160"/>
                  </a:lnTo>
                  <a:lnTo>
                    <a:pt x="4625" y="3149"/>
                  </a:lnTo>
                  <a:lnTo>
                    <a:pt x="4625" y="0"/>
                  </a:lnTo>
                  <a:lnTo>
                    <a:pt x="0" y="0"/>
                  </a:lnTo>
                  <a:lnTo>
                    <a:pt x="0" y="3663"/>
                  </a:lnTo>
                </a:path>
              </a:pathLst>
            </a:custGeom>
            <a:solidFill>
              <a:srgbClr val="96969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2920" y="3691080"/>
              <a:ext cx="882360" cy="726840"/>
            </a:xfrm>
            <a:custGeom>
              <a:avLst/>
              <a:gdLst/>
              <a:ahLst/>
              <a:rect l="l" t="t" r="r" b="b"/>
              <a:pathLst>
                <a:path w="4627" h="3917">
                  <a:moveTo>
                    <a:pt x="0" y="3664"/>
                  </a:moveTo>
                  <a:lnTo>
                    <a:pt x="56" y="3685"/>
                  </a:lnTo>
                  <a:lnTo>
                    <a:pt x="139" y="3712"/>
                  </a:lnTo>
                  <a:lnTo>
                    <a:pt x="218" y="3733"/>
                  </a:lnTo>
                  <a:lnTo>
                    <a:pt x="300" y="3752"/>
                  </a:lnTo>
                  <a:lnTo>
                    <a:pt x="437" y="3790"/>
                  </a:lnTo>
                  <a:lnTo>
                    <a:pt x="516" y="3811"/>
                  </a:lnTo>
                  <a:lnTo>
                    <a:pt x="595" y="3819"/>
                  </a:lnTo>
                  <a:lnTo>
                    <a:pt x="652" y="3838"/>
                  </a:lnTo>
                  <a:lnTo>
                    <a:pt x="722" y="3849"/>
                  </a:lnTo>
                  <a:lnTo>
                    <a:pt x="782" y="3868"/>
                  </a:lnTo>
                  <a:lnTo>
                    <a:pt x="836" y="3868"/>
                  </a:lnTo>
                  <a:lnTo>
                    <a:pt x="893" y="3878"/>
                  </a:lnTo>
                  <a:lnTo>
                    <a:pt x="963" y="3889"/>
                  </a:lnTo>
                  <a:lnTo>
                    <a:pt x="1023" y="3905"/>
                  </a:lnTo>
                  <a:lnTo>
                    <a:pt x="1077" y="3916"/>
                  </a:lnTo>
                  <a:lnTo>
                    <a:pt x="1115" y="3916"/>
                  </a:lnTo>
                  <a:lnTo>
                    <a:pt x="1147" y="3916"/>
                  </a:lnTo>
                  <a:lnTo>
                    <a:pt x="1194" y="3916"/>
                  </a:lnTo>
                  <a:lnTo>
                    <a:pt x="1216" y="3916"/>
                  </a:lnTo>
                  <a:lnTo>
                    <a:pt x="1264" y="3916"/>
                  </a:lnTo>
                  <a:lnTo>
                    <a:pt x="1286" y="3916"/>
                  </a:lnTo>
                  <a:lnTo>
                    <a:pt x="1321" y="3916"/>
                  </a:lnTo>
                  <a:lnTo>
                    <a:pt x="1343" y="3916"/>
                  </a:lnTo>
                  <a:lnTo>
                    <a:pt x="1375" y="3905"/>
                  </a:lnTo>
                  <a:lnTo>
                    <a:pt x="1400" y="3905"/>
                  </a:lnTo>
                  <a:lnTo>
                    <a:pt x="1423" y="3905"/>
                  </a:lnTo>
                  <a:lnTo>
                    <a:pt x="1448" y="3905"/>
                  </a:lnTo>
                  <a:lnTo>
                    <a:pt x="1467" y="3905"/>
                  </a:lnTo>
                  <a:lnTo>
                    <a:pt x="1492" y="3897"/>
                  </a:lnTo>
                  <a:lnTo>
                    <a:pt x="1505" y="3897"/>
                  </a:lnTo>
                  <a:lnTo>
                    <a:pt x="1527" y="3897"/>
                  </a:lnTo>
                  <a:lnTo>
                    <a:pt x="1562" y="3889"/>
                  </a:lnTo>
                  <a:lnTo>
                    <a:pt x="1597" y="3889"/>
                  </a:lnTo>
                  <a:lnTo>
                    <a:pt x="1619" y="3878"/>
                  </a:lnTo>
                  <a:lnTo>
                    <a:pt x="1641" y="3878"/>
                  </a:lnTo>
                  <a:lnTo>
                    <a:pt x="1676" y="3868"/>
                  </a:lnTo>
                  <a:lnTo>
                    <a:pt x="1689" y="3868"/>
                  </a:lnTo>
                  <a:lnTo>
                    <a:pt x="1746" y="3868"/>
                  </a:lnTo>
                  <a:lnTo>
                    <a:pt x="1790" y="3860"/>
                  </a:lnTo>
                  <a:lnTo>
                    <a:pt x="1825" y="3849"/>
                  </a:lnTo>
                  <a:lnTo>
                    <a:pt x="1873" y="3838"/>
                  </a:lnTo>
                  <a:lnTo>
                    <a:pt x="1929" y="3819"/>
                  </a:lnTo>
                  <a:lnTo>
                    <a:pt x="2009" y="3801"/>
                  </a:lnTo>
                  <a:lnTo>
                    <a:pt x="2053" y="3779"/>
                  </a:lnTo>
                  <a:lnTo>
                    <a:pt x="2100" y="3771"/>
                  </a:lnTo>
                  <a:lnTo>
                    <a:pt x="2182" y="3742"/>
                  </a:lnTo>
                  <a:lnTo>
                    <a:pt x="2262" y="3712"/>
                  </a:lnTo>
                  <a:lnTo>
                    <a:pt x="2293" y="3701"/>
                  </a:lnTo>
                  <a:lnTo>
                    <a:pt x="2341" y="3674"/>
                  </a:lnTo>
                  <a:lnTo>
                    <a:pt x="2376" y="3664"/>
                  </a:lnTo>
                  <a:lnTo>
                    <a:pt x="2411" y="3645"/>
                  </a:lnTo>
                  <a:lnTo>
                    <a:pt x="2503" y="3615"/>
                  </a:lnTo>
                  <a:lnTo>
                    <a:pt x="2582" y="3597"/>
                  </a:lnTo>
                  <a:lnTo>
                    <a:pt x="2664" y="3567"/>
                  </a:lnTo>
                  <a:lnTo>
                    <a:pt x="2709" y="3538"/>
                  </a:lnTo>
                  <a:lnTo>
                    <a:pt x="2756" y="3519"/>
                  </a:lnTo>
                  <a:lnTo>
                    <a:pt x="2788" y="3509"/>
                  </a:lnTo>
                  <a:lnTo>
                    <a:pt x="2836" y="3490"/>
                  </a:lnTo>
                  <a:lnTo>
                    <a:pt x="2928" y="3461"/>
                  </a:lnTo>
                  <a:lnTo>
                    <a:pt x="2972" y="3441"/>
                  </a:lnTo>
                  <a:lnTo>
                    <a:pt x="3019" y="3419"/>
                  </a:lnTo>
                  <a:lnTo>
                    <a:pt x="3064" y="3412"/>
                  </a:lnTo>
                  <a:lnTo>
                    <a:pt x="3111" y="3393"/>
                  </a:lnTo>
                  <a:lnTo>
                    <a:pt x="3156" y="3371"/>
                  </a:lnTo>
                  <a:lnTo>
                    <a:pt x="3213" y="3364"/>
                  </a:lnTo>
                  <a:lnTo>
                    <a:pt x="3260" y="3343"/>
                  </a:lnTo>
                  <a:lnTo>
                    <a:pt x="3305" y="3326"/>
                  </a:lnTo>
                  <a:lnTo>
                    <a:pt x="3362" y="3315"/>
                  </a:lnTo>
                  <a:lnTo>
                    <a:pt x="3422" y="3293"/>
                  </a:lnTo>
                  <a:lnTo>
                    <a:pt x="3479" y="3275"/>
                  </a:lnTo>
                  <a:lnTo>
                    <a:pt x="3536" y="3257"/>
                  </a:lnTo>
                  <a:lnTo>
                    <a:pt x="3593" y="3257"/>
                  </a:lnTo>
                  <a:lnTo>
                    <a:pt x="3650" y="3249"/>
                  </a:lnTo>
                  <a:lnTo>
                    <a:pt x="3707" y="3238"/>
                  </a:lnTo>
                  <a:lnTo>
                    <a:pt x="3768" y="3216"/>
                  </a:lnTo>
                  <a:lnTo>
                    <a:pt x="3822" y="3208"/>
                  </a:lnTo>
                  <a:lnTo>
                    <a:pt x="3879" y="3198"/>
                  </a:lnTo>
                  <a:lnTo>
                    <a:pt x="3947" y="3179"/>
                  </a:lnTo>
                  <a:lnTo>
                    <a:pt x="4017" y="3168"/>
                  </a:lnTo>
                  <a:lnTo>
                    <a:pt x="4088" y="3168"/>
                  </a:lnTo>
                  <a:lnTo>
                    <a:pt x="4157" y="3168"/>
                  </a:lnTo>
                  <a:lnTo>
                    <a:pt x="4223" y="3160"/>
                  </a:lnTo>
                  <a:lnTo>
                    <a:pt x="4303" y="3160"/>
                  </a:lnTo>
                  <a:lnTo>
                    <a:pt x="4385" y="3160"/>
                  </a:lnTo>
                  <a:lnTo>
                    <a:pt x="4452" y="3160"/>
                  </a:lnTo>
                  <a:lnTo>
                    <a:pt x="4534" y="3160"/>
                  </a:lnTo>
                  <a:lnTo>
                    <a:pt x="4626" y="3149"/>
                  </a:lnTo>
                  <a:lnTo>
                    <a:pt x="4626" y="0"/>
                  </a:lnTo>
                  <a:lnTo>
                    <a:pt x="0" y="0"/>
                  </a:lnTo>
                  <a:lnTo>
                    <a:pt x="0" y="3664"/>
                  </a:lnTo>
                </a:path>
              </a:pathLst>
            </a:custGeom>
            <a:solidFill>
              <a:srgbClr val="969696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815000" y="3772080"/>
            <a:ext cx="904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VirB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701200" y="418140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395760" y="2955960"/>
            <a:ext cx="3240" cy="8244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89960" y="2948040"/>
            <a:ext cx="1440" cy="9036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16720" y="4627440"/>
            <a:ext cx="322200" cy="454320"/>
          </a:xfrm>
          <a:custGeom>
            <a:avLst/>
            <a:gdLst/>
            <a:ahLst/>
            <a:rect l="l" t="t" r="r" b="b"/>
            <a:pathLst>
              <a:path w="1690" h="843">
                <a:moveTo>
                  <a:pt x="0" y="241"/>
                </a:moveTo>
                <a:lnTo>
                  <a:pt x="844" y="0"/>
                </a:lnTo>
                <a:lnTo>
                  <a:pt x="1689" y="241"/>
                </a:lnTo>
                <a:lnTo>
                  <a:pt x="1187" y="241"/>
                </a:lnTo>
                <a:lnTo>
                  <a:pt x="1187" y="601"/>
                </a:lnTo>
                <a:lnTo>
                  <a:pt x="1689" y="601"/>
                </a:lnTo>
                <a:lnTo>
                  <a:pt x="844" y="842"/>
                </a:lnTo>
                <a:lnTo>
                  <a:pt x="0" y="601"/>
                </a:lnTo>
                <a:lnTo>
                  <a:pt x="502" y="601"/>
                </a:lnTo>
                <a:lnTo>
                  <a:pt x="502" y="241"/>
                </a:lnTo>
                <a:lnTo>
                  <a:pt x="0" y="241"/>
                </a:lnTo>
              </a:path>
            </a:pathLst>
          </a:custGeom>
          <a:solidFill>
            <a:srgbClr val="ee3757"/>
          </a:solidFill>
          <a:ln w="28440">
            <a:solidFill>
              <a:srgbClr val="ee37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043760" y="2955960"/>
            <a:ext cx="1440" cy="8244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37600" y="2944800"/>
            <a:ext cx="0" cy="936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606720" y="2952720"/>
            <a:ext cx="2398680" cy="0"/>
          </a:xfrm>
          <a:prstGeom prst="line">
            <a:avLst/>
          </a:prstGeom>
          <a:ln w="28440">
            <a:solidFill>
              <a:srgbClr val="ee3757"/>
            </a:solidFill>
            <a:prstDash val="sysDot"/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654440" y="4346640"/>
            <a:ext cx="292320" cy="404640"/>
          </a:xfrm>
          <a:prstGeom prst="line">
            <a:avLst/>
          </a:prstGeom>
          <a:ln w="28440">
            <a:solidFill>
              <a:srgbClr val="ee3757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346720" y="4346640"/>
            <a:ext cx="0" cy="806400"/>
          </a:xfrm>
          <a:prstGeom prst="line">
            <a:avLst/>
          </a:prstGeom>
          <a:ln w="28440">
            <a:solidFill>
              <a:srgbClr val="ee3757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13520" y="3038400"/>
            <a:ext cx="563400" cy="352440"/>
          </a:xfrm>
          <a:prstGeom prst="roundRect">
            <a:avLst>
              <a:gd name="adj" fmla="val 231"/>
            </a:avLst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59720" y="3038400"/>
            <a:ext cx="563400" cy="352440"/>
          </a:xfrm>
          <a:prstGeom prst="roundRect">
            <a:avLst>
              <a:gd name="adj" fmla="val 231"/>
            </a:avLst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05560" y="3038400"/>
            <a:ext cx="565200" cy="352440"/>
          </a:xfrm>
          <a:prstGeom prst="roundRect">
            <a:avLst>
              <a:gd name="adj" fmla="val 231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53560" y="3038400"/>
            <a:ext cx="564840" cy="352440"/>
          </a:xfrm>
          <a:prstGeom prst="roundRect">
            <a:avLst>
              <a:gd name="adj" fmla="val 231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51600" y="3075120"/>
            <a:ext cx="684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100" spc="-1" strike="noStrike">
                <a:solidFill>
                  <a:srgbClr val="00279f"/>
                </a:solidFill>
                <a:latin typeface="Arial"/>
              </a:rPr>
              <a:t>Why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61160" y="3117960"/>
            <a:ext cx="5634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Classifi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46880" y="3070080"/>
            <a:ext cx="684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Structural</a:t>
            </a:r>
            <a:br>
              <a:rPr sz="700"/>
            </a:b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Refin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13600" y="3079800"/>
            <a:ext cx="712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Consistency</a:t>
            </a:r>
            <a:br>
              <a:rPr sz="700"/>
            </a:br>
            <a:r>
              <a:rPr b="0" lang="en-GB" sz="700" spc="-1" strike="noStrike">
                <a:solidFill>
                  <a:srgbClr val="00279f"/>
                </a:solidFill>
                <a:latin typeface="Arial"/>
              </a:rPr>
              <a:t>Te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701200" y="3190680"/>
            <a:ext cx="210960" cy="4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96120" y="3392640"/>
            <a:ext cx="0" cy="792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37600" y="3392640"/>
            <a:ext cx="0" cy="792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89960" y="3392640"/>
            <a:ext cx="1440" cy="792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43760" y="3392640"/>
            <a:ext cx="0" cy="792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18320" y="3983040"/>
            <a:ext cx="1440" cy="396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74000" y="3983040"/>
            <a:ext cx="0" cy="3960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51680" y="2598840"/>
            <a:ext cx="20746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owerLoom WhyN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05880" y="4857840"/>
            <a:ext cx="1338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yc/KRAK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346720" y="2959200"/>
            <a:ext cx="1316160" cy="0"/>
          </a:xfrm>
          <a:prstGeom prst="line">
            <a:avLst/>
          </a:prstGeom>
          <a:ln w="28440">
            <a:solidFill>
              <a:srgbClr val="ee3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858000" y="5632560"/>
            <a:ext cx="1440" cy="282600"/>
          </a:xfrm>
          <a:prstGeom prst="line">
            <a:avLst/>
          </a:prstGeom>
          <a:ln w="28440">
            <a:solidFill>
              <a:srgbClr val="ee3757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346720" y="2958840"/>
            <a:ext cx="0" cy="587160"/>
          </a:xfrm>
          <a:prstGeom prst="line">
            <a:avLst/>
          </a:prstGeom>
          <a:ln w="28440">
            <a:solidFill>
              <a:srgbClr val="ee3757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2840" y="3270240"/>
            <a:ext cx="277920" cy="405000"/>
          </a:xfrm>
          <a:prstGeom prst="line">
            <a:avLst/>
          </a:prstGeom>
          <a:ln w="28440">
            <a:solidFill>
              <a:srgbClr val="ee3757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15120" y="5872320"/>
            <a:ext cx="7844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dvantages of Logic-based Mode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malizes reasoning and gives justificat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ofs provide justifications for derived fact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f one accepts the premises one must/should accept the conclus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planation and understandabilit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oofs are a good starting point to provide explana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gical models are “easy” to understand and interpret (e.g., rules learned by an ILP method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gical models are easier to debug than other approach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anslatability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ifferent logical representations are (often) easily translatable into each other (e.g., this diffuses the attribute-vs.-collection distinction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0">
              <a:lnSpc>
                <a:spcPct val="87000"/>
              </a:lnSpc>
              <a:spcAft>
                <a:spcPts val="513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6091200"/>
            <a:ext cx="62712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627120" cy="76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yNot Result in KRAKEN UIA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41360" y="0"/>
            <a:ext cx="8331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oes Doug Lenat Speak German?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>
            <a:lum contrast="-18000"/>
          </a:blip>
          <a:srcRect l="16558" t="61083" r="29931" b="19538"/>
          <a:stretch/>
        </p:blipFill>
        <p:spPr>
          <a:xfrm>
            <a:off x="328680" y="3933720"/>
            <a:ext cx="7373880" cy="2006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511" name=""/>
          <p:cNvGrpSpPr/>
          <p:nvPr/>
        </p:nvGrpSpPr>
        <p:grpSpPr>
          <a:xfrm>
            <a:off x="5323680" y="5526000"/>
            <a:ext cx="3614040" cy="549360"/>
            <a:chOff x="5323680" y="5526000"/>
            <a:chExt cx="3614040" cy="549360"/>
          </a:xfrm>
        </p:grpSpPr>
        <p:sp>
          <p:nvSpPr>
            <p:cNvPr id="512" name=""/>
            <p:cNvSpPr/>
            <p:nvPr/>
          </p:nvSpPr>
          <p:spPr>
            <a:xfrm>
              <a:off x="6354720" y="5535720"/>
              <a:ext cx="2583000" cy="5396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500" spc="-1" strike="noStrike">
                  <a:solidFill>
                    <a:srgbClr val="ef2d0d"/>
                  </a:solidFill>
                  <a:latin typeface="Arial"/>
                </a:rPr>
                <a:t>Many similar explanations</a:t>
              </a:r>
              <a:br>
                <a:rPr sz="1500"/>
              </a:br>
              <a:r>
                <a:rPr b="1" lang="en-US" sz="1500" spc="-1" strike="noStrike">
                  <a:solidFill>
                    <a:srgbClr val="ef2d0d"/>
                  </a:solidFill>
                  <a:latin typeface="Arial"/>
                </a:rPr>
                <a:t>Need to generaliz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616200">
              <a:off x="5328720" y="5611680"/>
              <a:ext cx="974880" cy="147600"/>
            </a:xfrm>
            <a:prstGeom prst="leftArrow">
              <a:avLst>
                <a:gd name="adj1" fmla="val 50000"/>
                <a:gd name="adj2" fmla="val 165122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32760" bIns="32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38040" y="1515960"/>
            <a:ext cx="7407360" cy="2274840"/>
            <a:chOff x="338040" y="1515960"/>
            <a:chExt cx="7407360" cy="2274840"/>
          </a:xfrm>
        </p:grpSpPr>
        <p:pic>
          <p:nvPicPr>
            <p:cNvPr id="515" name="" descr=""/>
            <p:cNvPicPr/>
            <p:nvPr/>
          </p:nvPicPr>
          <p:blipFill>
            <a:blip r:embed="rId2">
              <a:lum contrast="-18000"/>
            </a:blip>
            <a:srcRect l="16637" t="25912" r="27306" b="51212"/>
            <a:stretch/>
          </p:blipFill>
          <p:spPr>
            <a:xfrm>
              <a:off x="338040" y="1515960"/>
              <a:ext cx="7407360" cy="22748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16" name="" descr=""/>
            <p:cNvPicPr/>
            <p:nvPr/>
          </p:nvPicPr>
          <p:blipFill>
            <a:blip r:embed="rId3">
              <a:lum contrast="-18000"/>
            </a:blip>
            <a:srcRect l="26795" t="28943" r="27306" b="66179"/>
            <a:stretch/>
          </p:blipFill>
          <p:spPr>
            <a:xfrm>
              <a:off x="566640" y="3264840"/>
              <a:ext cx="6065280" cy="48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7" name="" descr=""/>
          <p:cNvPicPr/>
          <p:nvPr/>
        </p:nvPicPr>
        <p:blipFill>
          <a:blip r:embed="rId4">
            <a:lum contrast="-18000"/>
          </a:blip>
          <a:srcRect l="16637" t="25912" r="27306" b="51212"/>
          <a:stretch/>
        </p:blipFill>
        <p:spPr>
          <a:xfrm>
            <a:off x="336600" y="1519200"/>
            <a:ext cx="7407360" cy="227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mproved Explanation by Generalizing Similar Proof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>
            <a:lum contrast="-6000"/>
          </a:blip>
          <a:srcRect l="0" t="14113" r="0" b="21398"/>
          <a:stretch/>
        </p:blipFill>
        <p:spPr>
          <a:xfrm>
            <a:off x="582480" y="1501920"/>
            <a:ext cx="8025120" cy="4640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lternative Lower-Score Explan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planation 2 (score 0.38)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contrast="-12000"/>
          </a:blip>
          <a:srcRect l="1057" t="5184" r="12875" b="80853"/>
          <a:stretch/>
        </p:blipFill>
        <p:spPr>
          <a:xfrm>
            <a:off x="1041480" y="2725560"/>
            <a:ext cx="7340400" cy="11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>
            <a:off x="1955880" y="4286160"/>
            <a:ext cx="3601800" cy="82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4900" spc="-1" strike="noStrike">
                <a:solidFill>
                  <a:srgbClr val="ef2d0d"/>
                </a:solidFill>
                <a:latin typeface="Arial"/>
              </a:rPr>
              <a:t>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>
            <a:lum contrast="-12000"/>
          </a:blip>
          <a:srcRect l="1057" t="19897" r="54884" b="69530"/>
          <a:stretch/>
        </p:blipFill>
        <p:spPr>
          <a:xfrm>
            <a:off x="1058760" y="4068720"/>
            <a:ext cx="5359680" cy="124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7804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lternative Lower-Score Explanation Detai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9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ample Explanation 2 Detail (score 0.38)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>
            <a:lum contrast="-12000"/>
          </a:blip>
          <a:srcRect l="0" t="43179" r="0" b="0"/>
          <a:stretch/>
        </p:blipFill>
        <p:spPr>
          <a:xfrm>
            <a:off x="1071720" y="2019240"/>
            <a:ext cx="7510320" cy="4132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81298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artial Inference Application #2: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attern Matching for Link Discovery (EELD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1040" y="1677600"/>
            <a:ext cx="7804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k Discovery Problem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Give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: large amounts of evidence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eople, organizations, places, events, relationships, accounts, transactions, etc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iscov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: high-level activities of interest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-390240">
              <a:lnSpc>
                <a:spcPct val="87000"/>
              </a:lnSpc>
              <a:spcAft>
                <a:spcPts val="388"/>
              </a:spcAft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murders, gang wars, industry takeovers, terrorist activities, etc.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OJAK approach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 evidence as large-scale 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PowerLoom evidence KB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 domain knowledge via logic rul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present patterns via logic rules and querie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Us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partial inferen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to detect patterns of interest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55760" indent="-39060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16040" indent="-39204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cale, incompleteness, noise, corrup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2" marL="977760" indent="0">
              <a:lnSpc>
                <a:spcPct val="87000"/>
              </a:lnSpc>
              <a:spcAft>
                <a:spcPts val="388"/>
              </a:spcAft>
              <a:buNone/>
              <a:tabLst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427800" y="214200"/>
            <a:ext cx="1962000" cy="1088280"/>
            <a:chOff x="6427800" y="214200"/>
            <a:chExt cx="1962000" cy="1088280"/>
          </a:xfrm>
        </p:grpSpPr>
        <p:sp>
          <p:nvSpPr>
            <p:cNvPr id="531" name=""/>
            <p:cNvSpPr/>
            <p:nvPr/>
          </p:nvSpPr>
          <p:spPr>
            <a:xfrm>
              <a:off x="6427800" y="253080"/>
              <a:ext cx="1962000" cy="49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1"/>
            <a:stretch/>
          </p:blipFill>
          <p:spPr>
            <a:xfrm>
              <a:off x="6438960" y="253080"/>
              <a:ext cx="613800" cy="5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7032600" y="214200"/>
              <a:ext cx="1209960" cy="10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206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Impact"/>
                </a:rPr>
                <a:t>KOJAK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71040" y="123480"/>
            <a:ext cx="81298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24000" indent="0">
              <a:lnSpc>
                <a:spcPct val="97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ample: Using “WhyNot” Partial Inference in EELD Evaluation Domai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6960" y="1512720"/>
            <a:ext cx="78040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46400" indent="-3826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 domain (small/medium size)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50 concepts, 200 relations, 6000 individual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0,000 asserted facts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25 rules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6400" indent="-3826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ple query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446400" indent="-3826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trict proof is fairly large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21 facts (or leaves)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80 rule applications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haining depth up to 9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mpossible to debug manually if it fails</a:t>
            </a:r>
            <a:br>
              <a:rPr sz="1600"/>
            </a:b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6400" indent="-382680">
              <a:lnSpc>
                <a:spcPct val="87000"/>
              </a:lnSpc>
              <a:spcAft>
                <a:spcPts val="638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at domain for WhyNot partial match to show its utility: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01640" indent="-384120">
              <a:lnSpc>
                <a:spcPct val="87000"/>
              </a:lnSpc>
              <a:spcAft>
                <a:spcPts val="513"/>
              </a:spcAft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ample: explain query failure caused by 1 missing assertion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marL="446400" indent="0">
              <a:lnSpc>
                <a:spcPct val="87000"/>
              </a:lnSpc>
              <a:spcAft>
                <a:spcPts val="638"/>
              </a:spcAft>
              <a:buNone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89000" y="3206880"/>
            <a:ext cx="580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ract-murder UID517 UID3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13400" cy="6858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00080" y="0"/>
            <a:ext cx="453708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633920" y="0"/>
            <a:ext cx="441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8400" y="100080"/>
            <a:ext cx="4529160" cy="66466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587840" y="95400"/>
            <a:ext cx="4548240" cy="66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00:06:41Z</dcterms:created>
  <dc:creator>Hans Chalupsky</dc:creator>
  <dc:description/>
  <dc:language>en-US</dc:language>
  <cp:lastModifiedBy>Thomas Russ</cp:lastModifiedBy>
  <cp:lastPrinted>2006-05-26T19:42:59Z</cp:lastPrinted>
  <dcterms:modified xsi:type="dcterms:W3CDTF">2006-09-26T20:30:11Z</dcterms:modified>
  <cp:revision>246</cp:revision>
  <dc:subject/>
  <dc:title>Very Large Knowledge Bases</dc:title>
</cp:coreProperties>
</file>